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7FF372-7BB4-425B-AF38-C154427B3934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6205B4-0340-4916-B67D-62BFA83E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08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92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08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92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6858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16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00315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6764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Trebuchet MS"/>
              </a:rPr>
              <a:t>DDR version 1.2</a:t>
            </a:r>
            <a:br>
              <a:rPr sz="3600"/>
            </a:br>
            <a:r>
              <a:rPr b="1" lang="en-GB" sz="2400" spc="-1" strike="noStrike">
                <a:solidFill>
                  <a:srgbClr val="0099cc"/>
                </a:solidFill>
                <a:latin typeface="Trebuchet MS"/>
              </a:rPr>
              <a:t>Project meeting</a:t>
            </a:r>
            <a:endParaRPr b="1" lang="en-US" sz="24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5918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15.12.20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illian Hell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OSC Caesar Association (PCA)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illian.hella@posccaesar.org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Agend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agend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Minutes of Meeting from las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ettling of suggested definitions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Clarifications of concepts and/or prioritization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greement of Project Description documen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Future work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Nex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OB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5:30:25Z</dcterms:created>
  <dc:creator>Ruilin</dc:creator>
  <dc:description/>
  <dc:language>en-US</dc:language>
  <cp:lastModifiedBy>Lillian Hella</cp:lastModifiedBy>
  <dcterms:modified xsi:type="dcterms:W3CDTF">2010-12-14T20:56:43Z</dcterms:modified>
  <cp:revision>131</cp:revision>
  <dc:subject/>
  <dc:title>PowerPoint Presentation</dc:title>
</cp:coreProperties>
</file>