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8.jpeg" ContentType="image/jpeg"/>
  <Override PartName="/ppt/media/image5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jpeg" ContentType="image/jpeg"/>
  <Override PartName="/ppt/media/image2.png" ContentType="image/png"/>
  <Override PartName="/ppt/media/image10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  <p:sldId id="286" r:id="rId42"/>
    <p:sldId id="287" r:id="rId43"/>
    <p:sldId id="288" r:id="rId44"/>
    <p:sldId id="289" r:id="rId45"/>
    <p:sldId id="290" r:id="rId46"/>
    <p:sldId id="291" r:id="rId47"/>
    <p:sldId id="292" r:id="rId48"/>
    <p:sldId id="293" r:id="rId49"/>
    <p:sldId id="294" r:id="rId50"/>
    <p:sldId id="295" r:id="rId51"/>
    <p:sldId id="296" r:id="rId52"/>
    <p:sldId id="297" r:id="rId53"/>
    <p:sldId id="298" r:id="rId54"/>
    <p:sldId id="299" r:id="rId55"/>
    <p:sldId id="300" r:id="rId56"/>
    <p:sldId id="301" r:id="rId57"/>
    <p:sldId id="302" r:id="rId58"/>
    <p:sldId id="303" r:id="rId59"/>
    <p:sldId id="304" r:id="rId60"/>
    <p:sldId id="305" r:id="rId61"/>
    <p:sldId id="306" r:id="rId62"/>
    <p:sldId id="307" r:id="rId63"/>
    <p:sldId id="308" r:id="rId64"/>
    <p:sldId id="309" r:id="rId65"/>
    <p:sldId id="310" r:id="rId66"/>
    <p:sldId id="311" r:id="rId67"/>
    <p:sldId id="312" r:id="rId68"/>
    <p:sldId id="313" r:id="rId69"/>
    <p:sldId id="314" r:id="rId70"/>
    <p:sldId id="315" r:id="rId71"/>
    <p:sldId id="316" r:id="rId72"/>
    <p:sldId id="317" r:id="rId73"/>
    <p:sldId id="318" r:id="rId74"/>
    <p:sldId id="319" r:id="rId75"/>
    <p:sldId id="320" r:id="rId76"/>
    <p:sldId id="321" r:id="rId77"/>
    <p:sldId id="322" r:id="rId78"/>
    <p:sldId id="323" r:id="rId79"/>
    <p:sldId id="324" r:id="rId80"/>
    <p:sldId id="325" r:id="rId81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slide" Target="slides/slide31.xml"/><Relationship Id="rId43" Type="http://schemas.openxmlformats.org/officeDocument/2006/relationships/slide" Target="slides/slide32.xml"/><Relationship Id="rId44" Type="http://schemas.openxmlformats.org/officeDocument/2006/relationships/slide" Target="slides/slide33.xml"/><Relationship Id="rId45" Type="http://schemas.openxmlformats.org/officeDocument/2006/relationships/slide" Target="slides/slide34.xml"/><Relationship Id="rId46" Type="http://schemas.openxmlformats.org/officeDocument/2006/relationships/slide" Target="slides/slide35.xml"/><Relationship Id="rId47" Type="http://schemas.openxmlformats.org/officeDocument/2006/relationships/slide" Target="slides/slide36.xml"/><Relationship Id="rId48" Type="http://schemas.openxmlformats.org/officeDocument/2006/relationships/slide" Target="slides/slide37.xml"/><Relationship Id="rId49" Type="http://schemas.openxmlformats.org/officeDocument/2006/relationships/slide" Target="slides/slide38.xml"/><Relationship Id="rId50" Type="http://schemas.openxmlformats.org/officeDocument/2006/relationships/slide" Target="slides/slide39.xml"/><Relationship Id="rId51" Type="http://schemas.openxmlformats.org/officeDocument/2006/relationships/slide" Target="slides/slide40.xml"/><Relationship Id="rId52" Type="http://schemas.openxmlformats.org/officeDocument/2006/relationships/slide" Target="slides/slide41.xml"/><Relationship Id="rId53" Type="http://schemas.openxmlformats.org/officeDocument/2006/relationships/slide" Target="slides/slide42.xml"/><Relationship Id="rId54" Type="http://schemas.openxmlformats.org/officeDocument/2006/relationships/slide" Target="slides/slide43.xml"/><Relationship Id="rId55" Type="http://schemas.openxmlformats.org/officeDocument/2006/relationships/slide" Target="slides/slide44.xml"/><Relationship Id="rId56" Type="http://schemas.openxmlformats.org/officeDocument/2006/relationships/slide" Target="slides/slide45.xml"/><Relationship Id="rId57" Type="http://schemas.openxmlformats.org/officeDocument/2006/relationships/slide" Target="slides/slide46.xml"/><Relationship Id="rId58" Type="http://schemas.openxmlformats.org/officeDocument/2006/relationships/slide" Target="slides/slide47.xml"/><Relationship Id="rId59" Type="http://schemas.openxmlformats.org/officeDocument/2006/relationships/slide" Target="slides/slide48.xml"/><Relationship Id="rId60" Type="http://schemas.openxmlformats.org/officeDocument/2006/relationships/slide" Target="slides/slide49.xml"/><Relationship Id="rId61" Type="http://schemas.openxmlformats.org/officeDocument/2006/relationships/slide" Target="slides/slide50.xml"/><Relationship Id="rId62" Type="http://schemas.openxmlformats.org/officeDocument/2006/relationships/slide" Target="slides/slide51.xml"/><Relationship Id="rId63" Type="http://schemas.openxmlformats.org/officeDocument/2006/relationships/slide" Target="slides/slide52.xml"/><Relationship Id="rId64" Type="http://schemas.openxmlformats.org/officeDocument/2006/relationships/slide" Target="slides/slide53.xml"/><Relationship Id="rId65" Type="http://schemas.openxmlformats.org/officeDocument/2006/relationships/slide" Target="slides/slide54.xml"/><Relationship Id="rId66" Type="http://schemas.openxmlformats.org/officeDocument/2006/relationships/slide" Target="slides/slide55.xml"/><Relationship Id="rId67" Type="http://schemas.openxmlformats.org/officeDocument/2006/relationships/slide" Target="slides/slide56.xml"/><Relationship Id="rId68" Type="http://schemas.openxmlformats.org/officeDocument/2006/relationships/slide" Target="slides/slide57.xml"/><Relationship Id="rId69" Type="http://schemas.openxmlformats.org/officeDocument/2006/relationships/slide" Target="slides/slide58.xml"/><Relationship Id="rId70" Type="http://schemas.openxmlformats.org/officeDocument/2006/relationships/slide" Target="slides/slide59.xml"/><Relationship Id="rId71" Type="http://schemas.openxmlformats.org/officeDocument/2006/relationships/slide" Target="slides/slide60.xml"/><Relationship Id="rId72" Type="http://schemas.openxmlformats.org/officeDocument/2006/relationships/slide" Target="slides/slide61.xml"/><Relationship Id="rId73" Type="http://schemas.openxmlformats.org/officeDocument/2006/relationships/slide" Target="slides/slide62.xml"/><Relationship Id="rId74" Type="http://schemas.openxmlformats.org/officeDocument/2006/relationships/slide" Target="slides/slide63.xml"/><Relationship Id="rId75" Type="http://schemas.openxmlformats.org/officeDocument/2006/relationships/slide" Target="slides/slide64.xml"/><Relationship Id="rId76" Type="http://schemas.openxmlformats.org/officeDocument/2006/relationships/slide" Target="slides/slide65.xml"/><Relationship Id="rId77" Type="http://schemas.openxmlformats.org/officeDocument/2006/relationships/slide" Target="slides/slide66.xml"/><Relationship Id="rId78" Type="http://schemas.openxmlformats.org/officeDocument/2006/relationships/slide" Target="slides/slide67.xml"/><Relationship Id="rId79" Type="http://schemas.openxmlformats.org/officeDocument/2006/relationships/slide" Target="slides/slide68.xml"/><Relationship Id="rId80" Type="http://schemas.openxmlformats.org/officeDocument/2006/relationships/slide" Target="slides/slide69.xml"/><Relationship Id="rId81" Type="http://schemas.openxmlformats.org/officeDocument/2006/relationships/slide" Target="slides/slide70.xml"/><Relationship Id="rId8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090082-A3A8-48C3-8483-64443827B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EE5069-34B6-4231-9D67-086BFF98E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495610-7FCC-4FA3-B6EB-A54FEBCFC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2BB719-876A-4C2B-8C5F-4237E6F82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CD7E7C-CE6D-4D40-82C3-8AD9F2D4F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4A1F47-D938-48B4-8330-2A096A702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48B62C-E56D-4FF7-A4BD-19D1BDE41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4A3C2E-0326-42C3-A682-C3E877E94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148B1D-822D-4F34-8F65-7184978FF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D8A612-5C42-4891-AED4-D0A01E0BC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A19EC3-7C30-4D3C-8F22-3664540B3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7D18DC-F778-487E-B5CF-24C4E1720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A19305-DE15-48AB-9EC1-D71EFF1D1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69B192-5A44-448D-8C11-0628A20C2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A1949B-DABD-48C8-B1F6-0E0E792AD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7AC8FE-B840-4BE9-9826-2ECCEA47A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B0AB6E-F351-4BE5-A717-7EE6BF415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B7C692-8740-4AD5-962A-621FADE71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4F0E79-C67F-49AE-BA8E-2720E7A07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436D9B-5CD3-4F10-8866-DE20594DB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6609B0-F2A2-44F8-80D3-AD4508648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6FCA33-5590-4F71-9BE7-9193D8251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732A46-D4AE-47A4-8ED5-D6B28BE82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CFA1F3-6027-4F62-B3BF-2BE53AD95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8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1187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252000" bIns="36000" anchor="ctr">
            <a:noAutofit/>
          </a:bodyPr>
          <a:p>
            <a:pPr marL="7142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9bcc"/>
                </a:solidFill>
                <a:latin typeface="Arial Narrow"/>
              </a:rPr>
              <a:t>Click to edit the title text format</a:t>
            </a:r>
            <a:endParaRPr b="1" lang="en-US" sz="3000" spc="-1" strike="noStrike">
              <a:solidFill>
                <a:srgbClr val="009bcc"/>
              </a:solidFill>
              <a:latin typeface="Arial Narrow"/>
            </a:endParaRPr>
          </a:p>
        </p:txBody>
      </p:sp>
      <p:sp>
        <p:nvSpPr>
          <p:cNvPr id="1" name="Rectangle 11"/>
          <p:cNvSpPr/>
          <p:nvPr/>
        </p:nvSpPr>
        <p:spPr>
          <a:xfrm>
            <a:off x="8267040" y="6305400"/>
            <a:ext cx="157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72000" tIns="46800" bIns="46800" anchor="t">
            <a:spAutoFit/>
          </a:bodyPr>
          <a:p>
            <a:pPr algn="r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| Sector, Alliance, Offer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2" descr="OK_Capgemini"/>
          <p:cNvPicPr/>
          <p:nvPr/>
        </p:nvPicPr>
        <p:blipFill>
          <a:blip r:embed="rId2"/>
          <a:stretch/>
        </p:blipFill>
        <p:spPr>
          <a:xfrm>
            <a:off x="212760" y="6381720"/>
            <a:ext cx="1558800" cy="339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>
          <a:xfrm>
            <a:off x="8632440" y="6554520"/>
            <a:ext cx="1265400" cy="1047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lstStyle>
            <a:lvl1pPr marL="216000"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Insert "Title, Author, Date"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>
          <a:xfrm>
            <a:off x="9646920" y="6732360"/>
            <a:ext cx="252360" cy="1047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lstStyle>
            <a:lvl1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3EE28-03B4-4B48-B892-C9F28480024C}" type="slidenum"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6"/>
          <p:cNvSpPr/>
          <p:nvPr/>
        </p:nvSpPr>
        <p:spPr>
          <a:xfrm>
            <a:off x="-7920" y="6286680"/>
            <a:ext cx="9907560" cy="17280"/>
          </a:xfrm>
          <a:prstGeom prst="rect">
            <a:avLst/>
          </a:prstGeom>
          <a:gradFill rotWithShape="0">
            <a:gsLst>
              <a:gs pos="0">
                <a:srgbClr val="c6e9f4"/>
              </a:gs>
              <a:gs pos="100000">
                <a:srgbClr val="009b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dt" idx="3"/>
          </p:nvPr>
        </p:nvSpPr>
        <p:spPr>
          <a:xfrm>
            <a:off x="6787800" y="6692400"/>
            <a:ext cx="2879640" cy="1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© 2010 Capgemini. All rights reserved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e 25"/>
          <p:cNvGrpSpPr/>
          <p:nvPr/>
        </p:nvGrpSpPr>
        <p:grpSpPr>
          <a:xfrm>
            <a:off x="-7920" y="0"/>
            <a:ext cx="3457440" cy="1235160"/>
            <a:chOff x="-7920" y="0"/>
            <a:chExt cx="3457440" cy="1235160"/>
          </a:xfrm>
        </p:grpSpPr>
        <p:grpSp>
          <p:nvGrpSpPr>
            <p:cNvPr id="8" name="Freeform 23"/>
            <p:cNvGrpSpPr/>
            <p:nvPr/>
          </p:nvGrpSpPr>
          <p:grpSpPr>
            <a:xfrm>
              <a:off x="-7920" y="0"/>
              <a:ext cx="3457440" cy="1235160"/>
              <a:chOff x="-7920" y="0"/>
              <a:chExt cx="3457440" cy="1235160"/>
            </a:xfrm>
          </p:grpSpPr>
          <p:pic>
            <p:nvPicPr>
              <p:cNvPr id="9" name="Freeform 23" descr=""/>
              <p:cNvPicPr/>
              <p:nvPr/>
            </p:nvPicPr>
            <p:blipFill>
              <a:blip r:embed="rId3"/>
              <a:stretch/>
            </p:blipFill>
            <p:spPr>
              <a:xfrm>
                <a:off x="-7920" y="0"/>
                <a:ext cx="3457440" cy="123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>
                <a:off x="48960" y="33120"/>
                <a:ext cx="3346560" cy="112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1" name="Image 27" descr="CBE_Label_pptCorner.png"/>
            <p:cNvPicPr/>
            <p:nvPr/>
          </p:nvPicPr>
          <p:blipFill>
            <a:blip r:embed="rId4"/>
            <a:stretch/>
          </p:blipFill>
          <p:spPr>
            <a:xfrm>
              <a:off x="204120" y="141840"/>
              <a:ext cx="507240" cy="474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" name="PlaceHolder 5"/>
          <p:cNvSpPr>
            <a:spLocks noGrp="1"/>
          </p:cNvSpPr>
          <p:nvPr>
            <p:ph type="body"/>
          </p:nvPr>
        </p:nvSpPr>
        <p:spPr>
          <a:xfrm>
            <a:off x="-360" y="1439640"/>
            <a:ext cx="9906120" cy="4679640"/>
          </a:xfrm>
          <a:prstGeom prst="rect">
            <a:avLst/>
          </a:prstGeom>
          <a:noFill/>
          <a:ln w="0">
            <a:noFill/>
          </a:ln>
        </p:spPr>
        <p:txBody>
          <a:bodyPr lIns="288000" rIns="72000" tIns="36000" bIns="36000" anchor="t">
            <a:normAutofit/>
          </a:bodyPr>
          <a:p>
            <a:pPr marL="270000" indent="-27000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166680">
              <a:spcBef>
                <a:spcPts val="601"/>
              </a:spcBef>
              <a:buClr>
                <a:srgbClr val="e65a0f"/>
              </a:buClr>
              <a:buFont typeface="Arial"/>
              <a:buChar char="•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17480" indent="-177840">
              <a:spcBef>
                <a:spcPts val="601"/>
              </a:spcBef>
              <a:buClr>
                <a:srgbClr val="ffbc1d"/>
              </a:buClr>
              <a:buFont typeface="Courier New"/>
              <a:buChar char="o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987480" indent="-176400">
              <a:spcBef>
                <a:spcPts val="601"/>
              </a:spcBef>
              <a:buClr>
                <a:srgbClr val="c8c500"/>
              </a:buClr>
              <a:buFont typeface="Arial"/>
              <a:buChar char="–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257480" indent="-176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257480" indent="-176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257480" indent="-176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1" name="Freeform 7"/>
          <p:cNvGrpSpPr/>
          <p:nvPr/>
        </p:nvGrpSpPr>
        <p:grpSpPr>
          <a:xfrm>
            <a:off x="-60480" y="-36360"/>
            <a:ext cx="10045800" cy="7016760"/>
            <a:chOff x="-60480" y="-36360"/>
            <a:chExt cx="10045800" cy="7016760"/>
          </a:xfrm>
        </p:grpSpPr>
        <p:pic>
          <p:nvPicPr>
            <p:cNvPr id="382" name="Freeform 7" descr=""/>
            <p:cNvPicPr/>
            <p:nvPr/>
          </p:nvPicPr>
          <p:blipFill>
            <a:blip r:embed="rId2"/>
            <a:stretch/>
          </p:blipFill>
          <p:spPr>
            <a:xfrm>
              <a:off x="-60480" y="-36360"/>
              <a:ext cx="10045800" cy="701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3" name=""/>
            <p:cNvSpPr/>
            <p:nvPr/>
          </p:nvSpPr>
          <p:spPr>
            <a:xfrm>
              <a:off x="0" y="0"/>
              <a:ext cx="9929880" cy="68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Image 9" descr="ppt_ExpertsMosaic_Color.jpg"/>
          <p:cNvPicPr/>
          <p:nvPr/>
        </p:nvPicPr>
        <p:blipFill>
          <a:blip r:embed="rId2"/>
          <a:srcRect l="0" t="19318" r="0" b="0"/>
          <a:stretch/>
        </p:blipFill>
        <p:spPr>
          <a:xfrm>
            <a:off x="0" y="1285920"/>
            <a:ext cx="9906120" cy="5572080"/>
          </a:xfrm>
          <a:prstGeom prst="rect">
            <a:avLst/>
          </a:prstGeom>
          <a:ln w="0">
            <a:noFill/>
          </a:ln>
        </p:spPr>
      </p:pic>
      <p:grpSp>
        <p:nvGrpSpPr>
          <p:cNvPr id="86" name="Freeform 30"/>
          <p:cNvGrpSpPr/>
          <p:nvPr/>
        </p:nvGrpSpPr>
        <p:grpSpPr>
          <a:xfrm>
            <a:off x="-79200" y="1206360"/>
            <a:ext cx="10040760" cy="5736960"/>
            <a:chOff x="-79200" y="1206360"/>
            <a:chExt cx="10040760" cy="5736960"/>
          </a:xfrm>
        </p:grpSpPr>
        <p:pic>
          <p:nvPicPr>
            <p:cNvPr id="87" name="Freeform 30" descr=""/>
            <p:cNvPicPr/>
            <p:nvPr/>
          </p:nvPicPr>
          <p:blipFill>
            <a:blip r:embed="rId3"/>
            <a:stretch/>
          </p:blipFill>
          <p:spPr>
            <a:xfrm>
              <a:off x="-79200" y="1265760"/>
              <a:ext cx="10040760" cy="56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-15840" y="1206360"/>
              <a:ext cx="9921960" cy="56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9" name="Picture 6" descr="OK_Capgemini"/>
          <p:cNvPicPr/>
          <p:nvPr/>
        </p:nvPicPr>
        <p:blipFill>
          <a:blip r:embed="rId4"/>
          <a:stretch/>
        </p:blipFill>
        <p:spPr>
          <a:xfrm>
            <a:off x="328680" y="368280"/>
            <a:ext cx="2158920" cy="509760"/>
          </a:xfrm>
          <a:prstGeom prst="rect">
            <a:avLst/>
          </a:prstGeom>
          <a:ln w="0">
            <a:noFill/>
          </a:ln>
        </p:spPr>
      </p:pic>
      <p:pic>
        <p:nvPicPr>
          <p:cNvPr id="90" name="Image 7" descr="Capgemini_Slogan_RGB.png"/>
          <p:cNvPicPr/>
          <p:nvPr/>
        </p:nvPicPr>
        <p:blipFill>
          <a:blip r:embed="rId5"/>
          <a:stretch/>
        </p:blipFill>
        <p:spPr>
          <a:xfrm>
            <a:off x="6164280" y="372960"/>
            <a:ext cx="3483000" cy="36036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1187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252000" bIns="36000" anchor="ctr">
            <a:noAutofit/>
          </a:bodyPr>
          <a:p>
            <a:pPr marL="7142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9bcc"/>
                </a:solidFill>
                <a:latin typeface="Arial Narrow"/>
              </a:rPr>
              <a:t>Click to edit the title text format</a:t>
            </a:r>
            <a:endParaRPr b="1" lang="en-US" sz="3000" spc="-1" strike="noStrike">
              <a:solidFill>
                <a:srgbClr val="009bcc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-360" y="1439640"/>
            <a:ext cx="9906120" cy="4679640"/>
          </a:xfrm>
          <a:prstGeom prst="rect">
            <a:avLst/>
          </a:prstGeom>
          <a:noFill/>
          <a:ln w="0">
            <a:noFill/>
          </a:ln>
        </p:spPr>
        <p:txBody>
          <a:bodyPr lIns="288000" rIns="72000" tIns="36000" bIns="36000" anchor="t">
            <a:normAutofit/>
          </a:bodyPr>
          <a:p>
            <a:pPr marL="270000" indent="-27000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166680">
              <a:spcBef>
                <a:spcPts val="601"/>
              </a:spcBef>
              <a:buClr>
                <a:srgbClr val="e65a0f"/>
              </a:buClr>
              <a:buFont typeface="Arial"/>
              <a:buChar char="•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17480" indent="-177840">
              <a:spcBef>
                <a:spcPts val="601"/>
              </a:spcBef>
              <a:buClr>
                <a:srgbClr val="ffbc1d"/>
              </a:buClr>
              <a:buFont typeface="Courier New"/>
              <a:buChar char="o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987480" indent="-176400">
              <a:spcBef>
                <a:spcPts val="601"/>
              </a:spcBef>
              <a:buClr>
                <a:srgbClr val="c8c500"/>
              </a:buClr>
              <a:buFont typeface="Arial"/>
              <a:buChar char="–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257480" indent="-176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257480" indent="-176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257480" indent="-176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Image 10" descr="ppt_KeyWords_Bkgd_OK.jpg"/>
          <p:cNvPicPr/>
          <p:nvPr/>
        </p:nvPicPr>
        <p:blipFill>
          <a:blip r:embed="rId2"/>
          <a:srcRect l="0" t="0" r="0" b="20412"/>
          <a:stretch/>
        </p:blipFill>
        <p:spPr>
          <a:xfrm>
            <a:off x="0" y="1285920"/>
            <a:ext cx="9906120" cy="5572080"/>
          </a:xfrm>
          <a:prstGeom prst="rect">
            <a:avLst/>
          </a:prstGeom>
          <a:ln w="0">
            <a:noFill/>
          </a:ln>
        </p:spPr>
      </p:pic>
      <p:grpSp>
        <p:nvGrpSpPr>
          <p:cNvPr id="130" name="Freeform 30"/>
          <p:cNvGrpSpPr/>
          <p:nvPr/>
        </p:nvGrpSpPr>
        <p:grpSpPr>
          <a:xfrm>
            <a:off x="-79200" y="1206360"/>
            <a:ext cx="10040760" cy="5736960"/>
            <a:chOff x="-79200" y="1206360"/>
            <a:chExt cx="10040760" cy="5736960"/>
          </a:xfrm>
        </p:grpSpPr>
        <p:pic>
          <p:nvPicPr>
            <p:cNvPr id="131" name="Freeform 30" descr=""/>
            <p:cNvPicPr/>
            <p:nvPr/>
          </p:nvPicPr>
          <p:blipFill>
            <a:blip r:embed="rId3"/>
            <a:stretch/>
          </p:blipFill>
          <p:spPr>
            <a:xfrm>
              <a:off x="-79200" y="1265760"/>
              <a:ext cx="10040760" cy="56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-15840" y="1206360"/>
              <a:ext cx="9921960" cy="56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3" name="Picture 6" descr="OK_Capgemini"/>
          <p:cNvPicPr/>
          <p:nvPr/>
        </p:nvPicPr>
        <p:blipFill>
          <a:blip r:embed="rId4"/>
          <a:stretch/>
        </p:blipFill>
        <p:spPr>
          <a:xfrm>
            <a:off x="328680" y="368280"/>
            <a:ext cx="2158920" cy="509760"/>
          </a:xfrm>
          <a:prstGeom prst="rect">
            <a:avLst/>
          </a:prstGeom>
          <a:ln w="0">
            <a:noFill/>
          </a:ln>
        </p:spPr>
      </p:pic>
      <p:pic>
        <p:nvPicPr>
          <p:cNvPr id="134" name="Image 9" descr="Capgemini_Slogan_RGB.png"/>
          <p:cNvPicPr/>
          <p:nvPr/>
        </p:nvPicPr>
        <p:blipFill>
          <a:blip r:embed="rId5"/>
          <a:stretch/>
        </p:blipFill>
        <p:spPr>
          <a:xfrm>
            <a:off x="6164280" y="372960"/>
            <a:ext cx="3483000" cy="36036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1187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252000" bIns="36000" anchor="ctr">
            <a:noAutofit/>
          </a:bodyPr>
          <a:p>
            <a:pPr marL="7142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9bcc"/>
                </a:solidFill>
                <a:latin typeface="Arial Narrow"/>
              </a:rPr>
              <a:t>Click to edit the title text format</a:t>
            </a:r>
            <a:endParaRPr b="1" lang="en-US" sz="3000" spc="-1" strike="noStrike">
              <a:solidFill>
                <a:srgbClr val="009bcc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-360" y="1439640"/>
            <a:ext cx="9906120" cy="4679640"/>
          </a:xfrm>
          <a:prstGeom prst="rect">
            <a:avLst/>
          </a:prstGeom>
          <a:noFill/>
          <a:ln w="0">
            <a:noFill/>
          </a:ln>
        </p:spPr>
        <p:txBody>
          <a:bodyPr lIns="288000" rIns="72000" tIns="36000" bIns="36000" anchor="t">
            <a:normAutofit/>
          </a:bodyPr>
          <a:p>
            <a:pPr marL="270000" indent="-27000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166680">
              <a:spcBef>
                <a:spcPts val="601"/>
              </a:spcBef>
              <a:buClr>
                <a:srgbClr val="e65a0f"/>
              </a:buClr>
              <a:buFont typeface="Arial"/>
              <a:buChar char="•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17480" indent="-177840">
              <a:spcBef>
                <a:spcPts val="601"/>
              </a:spcBef>
              <a:buClr>
                <a:srgbClr val="ffbc1d"/>
              </a:buClr>
              <a:buFont typeface="Courier New"/>
              <a:buChar char="o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987480" indent="-176400">
              <a:spcBef>
                <a:spcPts val="601"/>
              </a:spcBef>
              <a:buClr>
                <a:srgbClr val="c8c500"/>
              </a:buClr>
              <a:buFont typeface="Arial"/>
              <a:buChar char="–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257480" indent="-176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257480" indent="-176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257480" indent="-176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12" descr="OK_Capgemini"/>
          <p:cNvPicPr/>
          <p:nvPr/>
        </p:nvPicPr>
        <p:blipFill>
          <a:blip r:embed="rId2"/>
          <a:stretch/>
        </p:blipFill>
        <p:spPr>
          <a:xfrm>
            <a:off x="220680" y="6381720"/>
            <a:ext cx="1558800" cy="33984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26"/>
          <p:cNvSpPr/>
          <p:nvPr/>
        </p:nvSpPr>
        <p:spPr>
          <a:xfrm>
            <a:off x="0" y="6286680"/>
            <a:ext cx="9907560" cy="17280"/>
          </a:xfrm>
          <a:prstGeom prst="rect">
            <a:avLst/>
          </a:prstGeom>
          <a:gradFill rotWithShape="0">
            <a:gsLst>
              <a:gs pos="0">
                <a:srgbClr val="c6e9f4"/>
              </a:gs>
              <a:gs pos="100000">
                <a:srgbClr val="009b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Freeform 23"/>
          <p:cNvGrpSpPr/>
          <p:nvPr/>
        </p:nvGrpSpPr>
        <p:grpSpPr>
          <a:xfrm>
            <a:off x="-60480" y="-36360"/>
            <a:ext cx="3571920" cy="1358640"/>
            <a:chOff x="-60480" y="-36360"/>
            <a:chExt cx="3571920" cy="1358640"/>
          </a:xfrm>
        </p:grpSpPr>
        <p:pic>
          <p:nvPicPr>
            <p:cNvPr id="176" name="Freeform 23" descr=""/>
            <p:cNvPicPr/>
            <p:nvPr/>
          </p:nvPicPr>
          <p:blipFill>
            <a:blip r:embed="rId3"/>
            <a:stretch/>
          </p:blipFill>
          <p:spPr>
            <a:xfrm>
              <a:off x="-60480" y="-36360"/>
              <a:ext cx="3571920" cy="135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0" y="0"/>
              <a:ext cx="3457440" cy="12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Rectangle 11"/>
          <p:cNvSpPr/>
          <p:nvPr/>
        </p:nvSpPr>
        <p:spPr>
          <a:xfrm>
            <a:off x="8274960" y="6305400"/>
            <a:ext cx="157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72000" tIns="46800" bIns="46800" anchor="t">
            <a:spAutoFit/>
          </a:bodyPr>
          <a:p>
            <a:pPr algn="r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| Sector, Alliance, Offer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1187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252000" bIns="36000" anchor="ctr">
            <a:noAutofit/>
          </a:bodyPr>
          <a:p>
            <a:pPr marL="7142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9bcc"/>
                </a:solidFill>
                <a:latin typeface="Arial Narrow"/>
              </a:rPr>
              <a:t>Click to edit the title text format</a:t>
            </a:r>
            <a:endParaRPr b="1" lang="en-US" sz="3000" spc="-1" strike="noStrike">
              <a:solidFill>
                <a:srgbClr val="009bcc"/>
              </a:solidFill>
              <a:latin typeface="Arial Narrow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-360" y="1439640"/>
            <a:ext cx="9906120" cy="4679640"/>
          </a:xfrm>
          <a:prstGeom prst="rect">
            <a:avLst/>
          </a:prstGeom>
          <a:noFill/>
          <a:ln w="0">
            <a:noFill/>
          </a:ln>
        </p:spPr>
        <p:txBody>
          <a:bodyPr lIns="288000" rIns="72000" tIns="36000" bIns="36000" anchor="t">
            <a:normAutofit/>
          </a:bodyPr>
          <a:p>
            <a:pPr marL="270000" indent="-27000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166680">
              <a:spcBef>
                <a:spcPts val="601"/>
              </a:spcBef>
              <a:buClr>
                <a:srgbClr val="e65a0f"/>
              </a:buClr>
              <a:buFont typeface="Arial"/>
              <a:buChar char="•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17480" indent="-177840">
              <a:spcBef>
                <a:spcPts val="601"/>
              </a:spcBef>
              <a:buClr>
                <a:srgbClr val="ffbc1d"/>
              </a:buClr>
              <a:buFont typeface="Courier New"/>
              <a:buChar char="o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987480" indent="-176400">
              <a:spcBef>
                <a:spcPts val="601"/>
              </a:spcBef>
              <a:buClr>
                <a:srgbClr val="c8c500"/>
              </a:buClr>
              <a:buFont typeface="Arial"/>
              <a:buChar char="–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257480" indent="-176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257480" indent="-176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257480" indent="-176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ftr" idx="4"/>
          </p:nvPr>
        </p:nvSpPr>
        <p:spPr>
          <a:xfrm>
            <a:off x="8632440" y="6554520"/>
            <a:ext cx="1265400" cy="1047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lstStyle>
            <a:lvl1pPr marL="216000"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Insert "Title, Author, Date"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5"/>
          </p:nvPr>
        </p:nvSpPr>
        <p:spPr>
          <a:xfrm>
            <a:off x="9646920" y="6732360"/>
            <a:ext cx="252360" cy="1047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lstStyle>
            <a:lvl1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8D4B0-475D-41C4-B1B4-0B82347AAB98}" type="slidenum"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dt" idx="6"/>
          </p:nvPr>
        </p:nvSpPr>
        <p:spPr>
          <a:xfrm>
            <a:off x="6787800" y="6692400"/>
            <a:ext cx="2879640" cy="1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© 2010 Capgemini. All rights reserved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1187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252000" bIns="36000" anchor="ctr">
            <a:noAutofit/>
          </a:bodyPr>
          <a:p>
            <a:pPr marL="7142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9bcc"/>
                </a:solidFill>
                <a:latin typeface="Arial Narrow"/>
              </a:rPr>
              <a:t>Click to edit the title text format</a:t>
            </a:r>
            <a:endParaRPr b="1" lang="en-US" sz="3000" spc="-1" strike="noStrike">
              <a:solidFill>
                <a:srgbClr val="009bcc"/>
              </a:solidFill>
              <a:latin typeface="Arial Narrow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-360" y="1439640"/>
            <a:ext cx="9906120" cy="4679640"/>
          </a:xfrm>
          <a:prstGeom prst="rect">
            <a:avLst/>
          </a:prstGeom>
          <a:noFill/>
          <a:ln w="0">
            <a:noFill/>
          </a:ln>
        </p:spPr>
        <p:txBody>
          <a:bodyPr lIns="288000" rIns="72000" tIns="36000" bIns="36000" anchor="t">
            <a:normAutofit/>
          </a:bodyPr>
          <a:p>
            <a:pPr marL="270000" indent="-27000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166680">
              <a:spcBef>
                <a:spcPts val="601"/>
              </a:spcBef>
              <a:buClr>
                <a:srgbClr val="e65a0f"/>
              </a:buClr>
              <a:buFont typeface="Arial"/>
              <a:buChar char="•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17480" indent="-177840">
              <a:spcBef>
                <a:spcPts val="601"/>
              </a:spcBef>
              <a:buClr>
                <a:srgbClr val="ffbc1d"/>
              </a:buClr>
              <a:buFont typeface="Courier New"/>
              <a:buChar char="o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987480" indent="-176400">
              <a:spcBef>
                <a:spcPts val="601"/>
              </a:spcBef>
              <a:buClr>
                <a:srgbClr val="c8c500"/>
              </a:buClr>
              <a:buFont typeface="Arial"/>
              <a:buChar char="–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257480" indent="-176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257480" indent="-176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257480" indent="-176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b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Freeform 7"/>
          <p:cNvGrpSpPr/>
          <p:nvPr/>
        </p:nvGrpSpPr>
        <p:grpSpPr>
          <a:xfrm>
            <a:off x="-60480" y="-73080"/>
            <a:ext cx="10045800" cy="7016760"/>
            <a:chOff x="-60480" y="-73080"/>
            <a:chExt cx="10045800" cy="7016760"/>
          </a:xfrm>
        </p:grpSpPr>
        <p:pic>
          <p:nvPicPr>
            <p:cNvPr id="259" name="Freeform 7" descr=""/>
            <p:cNvPicPr/>
            <p:nvPr/>
          </p:nvPicPr>
          <p:blipFill>
            <a:blip r:embed="rId2"/>
            <a:stretch/>
          </p:blipFill>
          <p:spPr>
            <a:xfrm>
              <a:off x="-60480" y="-73080"/>
              <a:ext cx="10045800" cy="701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"/>
            <p:cNvSpPr/>
            <p:nvPr/>
          </p:nvSpPr>
          <p:spPr>
            <a:xfrm>
              <a:off x="0" y="-38160"/>
              <a:ext cx="9929880" cy="68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b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Freeform 7"/>
          <p:cNvGrpSpPr/>
          <p:nvPr/>
        </p:nvGrpSpPr>
        <p:grpSpPr>
          <a:xfrm>
            <a:off x="-60480" y="-73080"/>
            <a:ext cx="10045800" cy="7016760"/>
            <a:chOff x="-60480" y="-73080"/>
            <a:chExt cx="10045800" cy="7016760"/>
          </a:xfrm>
        </p:grpSpPr>
        <p:pic>
          <p:nvPicPr>
            <p:cNvPr id="298" name="Freeform 7" descr=""/>
            <p:cNvPicPr/>
            <p:nvPr/>
          </p:nvPicPr>
          <p:blipFill>
            <a:blip r:embed="rId2"/>
            <a:stretch/>
          </p:blipFill>
          <p:spPr>
            <a:xfrm>
              <a:off x="-60480" y="-73080"/>
              <a:ext cx="10045800" cy="701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"/>
            <p:cNvSpPr/>
            <p:nvPr/>
          </p:nvSpPr>
          <p:spPr>
            <a:xfrm>
              <a:off x="0" y="-38160"/>
              <a:ext cx="9929880" cy="68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0" name="Rectangle 8"/>
          <p:cNvSpPr/>
          <p:nvPr/>
        </p:nvSpPr>
        <p:spPr>
          <a:xfrm>
            <a:off x="7512120" y="5376960"/>
            <a:ext cx="232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360000" tIns="0" bIns="0" anchor="t">
            <a:spAutoFit/>
          </a:bodyPr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www.capgemini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9" descr="OK_Capgemini"/>
          <p:cNvPicPr/>
          <p:nvPr/>
        </p:nvPicPr>
        <p:blipFill>
          <a:blip r:embed="rId3"/>
          <a:stretch/>
        </p:blipFill>
        <p:spPr>
          <a:xfrm>
            <a:off x="1004760" y="922320"/>
            <a:ext cx="4676760" cy="1017720"/>
          </a:xfrm>
          <a:prstGeom prst="rect">
            <a:avLst/>
          </a:prstGeom>
          <a:ln w="0">
            <a:noFill/>
          </a:ln>
        </p:spPr>
      </p:pic>
      <p:sp>
        <p:nvSpPr>
          <p:cNvPr id="302" name="Rectangle 7"/>
          <p:cNvSpPr/>
          <p:nvPr/>
        </p:nvSpPr>
        <p:spPr>
          <a:xfrm>
            <a:off x="0" y="6600240"/>
            <a:ext cx="9906120" cy="2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0" bIns="180000" anchor="b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The information contained in this presentation is proprietary. ©2010 Capgemini. All rights reserv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Image 8" descr="Capgemini_Slogan_White.png"/>
          <p:cNvPicPr/>
          <p:nvPr/>
        </p:nvPicPr>
        <p:blipFill>
          <a:blip r:embed="rId4"/>
          <a:stretch/>
        </p:blipFill>
        <p:spPr>
          <a:xfrm>
            <a:off x="5816520" y="4856040"/>
            <a:ext cx="3803760" cy="3938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2" name="Freeform 7"/>
          <p:cNvGrpSpPr/>
          <p:nvPr/>
        </p:nvGrpSpPr>
        <p:grpSpPr>
          <a:xfrm>
            <a:off x="-60480" y="-73080"/>
            <a:ext cx="10045800" cy="7016760"/>
            <a:chOff x="-60480" y="-73080"/>
            <a:chExt cx="10045800" cy="7016760"/>
          </a:xfrm>
        </p:grpSpPr>
        <p:pic>
          <p:nvPicPr>
            <p:cNvPr id="343" name="Freeform 7" descr=""/>
            <p:cNvPicPr/>
            <p:nvPr/>
          </p:nvPicPr>
          <p:blipFill>
            <a:blip r:embed="rId3"/>
            <a:stretch/>
          </p:blipFill>
          <p:spPr>
            <a:xfrm>
              <a:off x="-60480" y="-73080"/>
              <a:ext cx="10045800" cy="701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4" name=""/>
            <p:cNvSpPr/>
            <p:nvPr/>
          </p:nvSpPr>
          <p:spPr>
            <a:xfrm>
              <a:off x="0" y="-38160"/>
              <a:ext cx="9929880" cy="68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0" y="2801520"/>
            <a:ext cx="5294160" cy="792360"/>
          </a:xfrm>
          <a:prstGeom prst="rect">
            <a:avLst/>
          </a:prstGeom>
          <a:noFill/>
          <a:ln w="0">
            <a:noFill/>
          </a:ln>
        </p:spPr>
        <p:txBody>
          <a:bodyPr lIns="324000" rIns="0" tIns="180000" bIns="36000" anchor="t">
            <a:noAutofit/>
          </a:bodyPr>
          <a:p>
            <a:pPr marL="32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000" spc="-1" strike="noStrike">
                <a:solidFill>
                  <a:srgbClr val="ffffff"/>
                </a:solidFill>
                <a:latin typeface="Arial Narrow"/>
              </a:rPr>
              <a:t>Yao Bo L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Stavanger, 11.05.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title"/>
          </p:nvPr>
        </p:nvSpPr>
        <p:spPr>
          <a:xfrm>
            <a:off x="-360" y="1239840"/>
            <a:ext cx="9906120" cy="1512720"/>
          </a:xfrm>
          <a:prstGeom prst="rect">
            <a:avLst/>
          </a:prstGeom>
          <a:noFill/>
          <a:ln w="0">
            <a:noFill/>
          </a:ln>
        </p:spPr>
        <p:txBody>
          <a:bodyPr lIns="324000" rIns="36000" tIns="432000" bIns="360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2f0ff"/>
                </a:solidFill>
                <a:latin typeface="Arial Narrow"/>
              </a:rPr>
              <a:t>Daily Drilling Report 1.2.0 Elements</a:t>
            </a:r>
            <a:endParaRPr b="1" lang="en-US" sz="3600" spc="-1" strike="noStrike">
              <a:solidFill>
                <a:srgbClr val="009bcc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1187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252000" bIns="36000" anchor="ctr">
            <a:noAutofit/>
          </a:bodyPr>
          <a:p>
            <a:pPr marL="7142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000" spc="-1" strike="noStrike">
                <a:solidFill>
                  <a:srgbClr val="009bcc"/>
                </a:solidFill>
                <a:latin typeface="Arial Narrow"/>
              </a:rPr>
              <a:t>Period</a:t>
            </a:r>
            <a:endParaRPr b="1" lang="en-US" sz="3000" spc="-1" strike="noStrike">
              <a:solidFill>
                <a:srgbClr val="009bcc"/>
              </a:solidFill>
              <a:latin typeface="Arial Narrow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-360" y="1439640"/>
            <a:ext cx="9906120" cy="4679640"/>
          </a:xfrm>
          <a:prstGeom prst="rect">
            <a:avLst/>
          </a:prstGeom>
          <a:noFill/>
          <a:ln w="0">
            <a:noFill/>
          </a:ln>
        </p:spPr>
        <p:txBody>
          <a:bodyPr lIns="288000" rIns="72000" tIns="36000" bIns="360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Type: Calculated f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Example output value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6-06-06 00:00 - 2006-06-06 12: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Footer Placeholder 3"/>
          <p:cNvSpPr/>
          <p:nvPr/>
        </p:nvSpPr>
        <p:spPr>
          <a:xfrm>
            <a:off x="8637840" y="6555240"/>
            <a:ext cx="1255320" cy="1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Insert "Title, Author, Dat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Slide Number Placeholder 4"/>
          <p:cNvSpPr/>
          <p:nvPr/>
        </p:nvSpPr>
        <p:spPr>
          <a:xfrm>
            <a:off x="9505440" y="6733080"/>
            <a:ext cx="536040" cy="1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B48B6-0A17-4385-9B02-8A8281E71135}" type="slidenum"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Date Placeholder 5"/>
          <p:cNvSpPr/>
          <p:nvPr/>
        </p:nvSpPr>
        <p:spPr>
          <a:xfrm>
            <a:off x="6788160" y="6692760"/>
            <a:ext cx="287964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© 2010 Capgemini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1187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252000" bIns="36000" anchor="ctr">
            <a:noAutofit/>
          </a:bodyPr>
          <a:p>
            <a:pPr marL="7142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9bcc"/>
                </a:solidFill>
                <a:latin typeface="Arial Narrow"/>
              </a:rPr>
              <a:t>Operation</a:t>
            </a:r>
            <a:endParaRPr b="1" lang="en-US" sz="3000" spc="-1" strike="noStrike">
              <a:solidFill>
                <a:srgbClr val="009bcc"/>
              </a:solidFill>
              <a:latin typeface="Arial Narrow"/>
            </a:endParaRPr>
          </a:p>
        </p:txBody>
      </p:sp>
      <p:pic>
        <p:nvPicPr>
          <p:cNvPr id="468" name="Content Placeholder 6" descr="operation.png"/>
          <p:cNvPicPr/>
          <p:nvPr/>
        </p:nvPicPr>
        <p:blipFill>
          <a:blip r:embed="rId1"/>
          <a:stretch/>
        </p:blipFill>
        <p:spPr>
          <a:xfrm>
            <a:off x="1257480" y="3122640"/>
            <a:ext cx="7391160" cy="1314360"/>
          </a:xfrm>
          <a:prstGeom prst="rect">
            <a:avLst/>
          </a:prstGeom>
          <a:ln w="0">
            <a:noFill/>
          </a:ln>
        </p:spPr>
      </p:pic>
      <p:sp>
        <p:nvSpPr>
          <p:cNvPr id="469" name="Footer Placeholder 3"/>
          <p:cNvSpPr/>
          <p:nvPr/>
        </p:nvSpPr>
        <p:spPr>
          <a:xfrm>
            <a:off x="7059240" y="6555240"/>
            <a:ext cx="2787120" cy="1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Daily Drilling Report 1.2.0 Elements, Yao Bo Lu, 11/05.20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Slide Number Placeholder 4"/>
          <p:cNvSpPr/>
          <p:nvPr/>
        </p:nvSpPr>
        <p:spPr>
          <a:xfrm>
            <a:off x="9505440" y="6733080"/>
            <a:ext cx="536040" cy="1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361DA-31EA-4BBE-B43E-E6717D9DD9E7}" type="slidenum"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Date Placeholder 5"/>
          <p:cNvSpPr/>
          <p:nvPr/>
        </p:nvSpPr>
        <p:spPr>
          <a:xfrm>
            <a:off x="6788160" y="6692760"/>
            <a:ext cx="287964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© 2010 Capgemini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1187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252000" bIns="36000" anchor="ctr">
            <a:noAutofit/>
          </a:bodyPr>
          <a:p>
            <a:pPr marL="7142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000" spc="-1" strike="noStrike">
                <a:solidFill>
                  <a:srgbClr val="009bcc"/>
                </a:solidFill>
                <a:latin typeface="Arial Narrow"/>
              </a:rPr>
              <a:t>Start depth</a:t>
            </a:r>
            <a:endParaRPr b="1" lang="en-US" sz="3000" spc="-1" strike="noStrike">
              <a:solidFill>
                <a:srgbClr val="009bcc"/>
              </a:solidFill>
              <a:latin typeface="Arial Narrow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-360" y="1439640"/>
            <a:ext cx="9906120" cy="4679640"/>
          </a:xfrm>
          <a:prstGeom prst="rect">
            <a:avLst/>
          </a:prstGeom>
          <a:noFill/>
          <a:ln w="0">
            <a:noFill/>
          </a:ln>
        </p:spPr>
        <p:txBody>
          <a:bodyPr lIns="288000" rIns="72000" tIns="36000" bIns="360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Name: mdHole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Type: measuredDepthCo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minOccurs: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maxOccurs: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Description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sured depth at start of the activity (m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Example input value: 1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Example output value: 1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Footer Placeholder 3"/>
          <p:cNvSpPr/>
          <p:nvPr/>
        </p:nvSpPr>
        <p:spPr>
          <a:xfrm>
            <a:off x="8637840" y="6555240"/>
            <a:ext cx="1255320" cy="1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Insert "Title, Author, Dat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Slide Number Placeholder 4"/>
          <p:cNvSpPr/>
          <p:nvPr/>
        </p:nvSpPr>
        <p:spPr>
          <a:xfrm>
            <a:off x="9505440" y="6733080"/>
            <a:ext cx="536040" cy="1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2A373-203F-438C-A51B-E0582E7AFC1D}" type="slidenum"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Date Placeholder 5"/>
          <p:cNvSpPr/>
          <p:nvPr/>
        </p:nvSpPr>
        <p:spPr>
          <a:xfrm>
            <a:off x="6788160" y="6692760"/>
            <a:ext cx="287964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© 2010 Capgemini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1187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252000" bIns="36000" anchor="ctr">
            <a:noAutofit/>
          </a:bodyPr>
          <a:p>
            <a:pPr marL="7142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000" spc="-1" strike="noStrike">
                <a:solidFill>
                  <a:srgbClr val="009bcc"/>
                </a:solidFill>
                <a:latin typeface="Arial Narrow"/>
              </a:rPr>
              <a:t>End depth</a:t>
            </a:r>
            <a:endParaRPr b="1" lang="en-US" sz="3000" spc="-1" strike="noStrike">
              <a:solidFill>
                <a:srgbClr val="009bcc"/>
              </a:solidFill>
              <a:latin typeface="Arial Narrow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-360" y="1439640"/>
            <a:ext cx="9906120" cy="4679640"/>
          </a:xfrm>
          <a:prstGeom prst="rect">
            <a:avLst/>
          </a:prstGeom>
          <a:noFill/>
          <a:ln w="0">
            <a:noFill/>
          </a:ln>
        </p:spPr>
        <p:txBody>
          <a:bodyPr lIns="288000" rIns="72000" tIns="36000" bIns="360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Name: m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Type: measuredDepthCo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minOccurs: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maxOccurs: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Description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sured depth at end of the activity (m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Example input value: 1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Example output value: 1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Footer Placeholder 3"/>
          <p:cNvSpPr/>
          <p:nvPr/>
        </p:nvSpPr>
        <p:spPr>
          <a:xfrm>
            <a:off x="8637840" y="6555240"/>
            <a:ext cx="1255320" cy="1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Insert "Title, Author, Dat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Slide Number Placeholder 4"/>
          <p:cNvSpPr/>
          <p:nvPr/>
        </p:nvSpPr>
        <p:spPr>
          <a:xfrm>
            <a:off x="9505440" y="6733080"/>
            <a:ext cx="536040" cy="1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F18AE-F1E0-4670-9126-5481FCD44E02}" type="slidenum"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Date Placeholder 5"/>
          <p:cNvSpPr/>
          <p:nvPr/>
        </p:nvSpPr>
        <p:spPr>
          <a:xfrm>
            <a:off x="6788160" y="6692760"/>
            <a:ext cx="287964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© 2010 Capgemini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1187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252000" bIns="36000" anchor="ctr">
            <a:noAutofit/>
          </a:bodyPr>
          <a:p>
            <a:pPr marL="7142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000" spc="-1" strike="noStrike">
                <a:solidFill>
                  <a:srgbClr val="009bcc"/>
                </a:solidFill>
                <a:latin typeface="Arial Narrow"/>
              </a:rPr>
              <a:t>Depth</a:t>
            </a:r>
            <a:endParaRPr b="1" lang="en-US" sz="3000" spc="-1" strike="noStrike">
              <a:solidFill>
                <a:srgbClr val="009bcc"/>
              </a:solidFill>
              <a:latin typeface="Arial Narrow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-360" y="1439640"/>
            <a:ext cx="9906120" cy="4679640"/>
          </a:xfrm>
          <a:prstGeom prst="rect">
            <a:avLst/>
          </a:prstGeom>
          <a:noFill/>
          <a:ln w="0">
            <a:noFill/>
          </a:ln>
        </p:spPr>
        <p:txBody>
          <a:bodyPr lIns="288000" rIns="72000" tIns="36000" bIns="360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Type: Calculated f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Example output value: 1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Footer Placeholder 3"/>
          <p:cNvSpPr/>
          <p:nvPr/>
        </p:nvSpPr>
        <p:spPr>
          <a:xfrm>
            <a:off x="8637840" y="6555240"/>
            <a:ext cx="1255320" cy="1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Insert "Title, Author, Dat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Slide Number Placeholder 4"/>
          <p:cNvSpPr/>
          <p:nvPr/>
        </p:nvSpPr>
        <p:spPr>
          <a:xfrm>
            <a:off x="9505440" y="6733080"/>
            <a:ext cx="536040" cy="1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11559-1329-49A2-9942-54AD513328C6}" type="slidenum"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Date Placeholder 5"/>
          <p:cNvSpPr/>
          <p:nvPr/>
        </p:nvSpPr>
        <p:spPr>
          <a:xfrm>
            <a:off x="6788160" y="6692760"/>
            <a:ext cx="287964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© 2010 Capgemini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1187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252000" bIns="36000" anchor="ctr">
            <a:noAutofit/>
          </a:bodyPr>
          <a:p>
            <a:pPr marL="7142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000" spc="-1" strike="noStrike">
                <a:solidFill>
                  <a:srgbClr val="009bcc"/>
                </a:solidFill>
                <a:latin typeface="Arial Narrow"/>
              </a:rPr>
              <a:t>Main - Sub Activity</a:t>
            </a:r>
            <a:endParaRPr b="1" lang="en-US" sz="3000" spc="-1" strike="noStrike">
              <a:solidFill>
                <a:srgbClr val="009bcc"/>
              </a:solidFill>
              <a:latin typeface="Arial Narrow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-360" y="1439640"/>
            <a:ext cx="9906120" cy="4679640"/>
          </a:xfrm>
          <a:prstGeom prst="rect">
            <a:avLst/>
          </a:prstGeom>
          <a:noFill/>
          <a:ln w="0">
            <a:noFill/>
          </a:ln>
        </p:spPr>
        <p:txBody>
          <a:bodyPr lIns="288000" rIns="72000" tIns="36000" bIns="360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Name: proprietary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Type: ActivityCodeNP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minOccurs: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maxOccurs: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Description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sured depth at end of the activity (m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Example input value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illing -- dr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Example output value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illing -- dr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Footer Placeholder 3"/>
          <p:cNvSpPr/>
          <p:nvPr/>
        </p:nvSpPr>
        <p:spPr>
          <a:xfrm>
            <a:off x="8637840" y="6555240"/>
            <a:ext cx="1255320" cy="1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Insert "Title, Author, Dat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Slide Number Placeholder 4"/>
          <p:cNvSpPr/>
          <p:nvPr/>
        </p:nvSpPr>
        <p:spPr>
          <a:xfrm>
            <a:off x="9505440" y="6733080"/>
            <a:ext cx="536040" cy="1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F9416-B731-4191-BD2E-41FFB2699702}" type="slidenum"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Date Placeholder 5"/>
          <p:cNvSpPr/>
          <p:nvPr/>
        </p:nvSpPr>
        <p:spPr>
          <a:xfrm>
            <a:off x="6788160" y="6692760"/>
            <a:ext cx="287964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© 2010 Capgemini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1187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252000" bIns="36000" anchor="ctr">
            <a:noAutofit/>
          </a:bodyPr>
          <a:p>
            <a:pPr marL="7142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000" spc="-1" strike="noStrike">
                <a:solidFill>
                  <a:srgbClr val="009bcc"/>
                </a:solidFill>
                <a:latin typeface="Arial Narrow"/>
              </a:rPr>
              <a:t>State</a:t>
            </a:r>
            <a:endParaRPr b="1" lang="en-US" sz="3000" spc="-1" strike="noStrike">
              <a:solidFill>
                <a:srgbClr val="009bcc"/>
              </a:solidFill>
              <a:latin typeface="Arial Narrow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-360" y="1439640"/>
            <a:ext cx="9906120" cy="4679640"/>
          </a:xfrm>
          <a:prstGeom prst="rect">
            <a:avLst/>
          </a:prstGeom>
          <a:noFill/>
          <a:ln w="0">
            <a:noFill/>
          </a:ln>
        </p:spPr>
        <p:txBody>
          <a:bodyPr lIns="288000" rIns="72000" tIns="36000" bIns="360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Name: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Type: MainActivity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minOccurs: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maxOccurs: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Description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ish, interrupted, failed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Example input value: 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Example output value: 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Footer Placeholder 3"/>
          <p:cNvSpPr/>
          <p:nvPr/>
        </p:nvSpPr>
        <p:spPr>
          <a:xfrm>
            <a:off x="8637840" y="6555240"/>
            <a:ext cx="1255320" cy="1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Insert "Title, Author, Dat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Slide Number Placeholder 4"/>
          <p:cNvSpPr/>
          <p:nvPr/>
        </p:nvSpPr>
        <p:spPr>
          <a:xfrm>
            <a:off x="9505440" y="6733080"/>
            <a:ext cx="536040" cy="1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FF00C-5F91-4E1D-9517-BA0E8662F635}" type="slidenum"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Date Placeholder 5"/>
          <p:cNvSpPr/>
          <p:nvPr/>
        </p:nvSpPr>
        <p:spPr>
          <a:xfrm>
            <a:off x="6788160" y="6692760"/>
            <a:ext cx="287964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© 2010 Capgemini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1187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252000" bIns="36000" anchor="ctr">
            <a:noAutofit/>
          </a:bodyPr>
          <a:p>
            <a:pPr marL="7142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000" spc="-1" strike="noStrike">
                <a:solidFill>
                  <a:srgbClr val="009bcc"/>
                </a:solidFill>
                <a:latin typeface="Arial Narrow"/>
              </a:rPr>
              <a:t>Bit </a:t>
            </a:r>
            <a:r>
              <a:rPr b="1" lang="en-US" sz="3000" spc="-1" strike="noStrike">
                <a:solidFill>
                  <a:srgbClr val="009bcc"/>
                </a:solidFill>
                <a:latin typeface="Arial Narrow"/>
              </a:rPr>
              <a:t>record</a:t>
            </a:r>
            <a:endParaRPr b="1" lang="en-US" sz="3000" spc="-1" strike="noStrike">
              <a:solidFill>
                <a:srgbClr val="009bcc"/>
              </a:solidFill>
              <a:latin typeface="Arial Narrow"/>
            </a:endParaRPr>
          </a:p>
        </p:txBody>
      </p:sp>
      <p:sp>
        <p:nvSpPr>
          <p:cNvPr id="498" name="Footer Placeholder 3"/>
          <p:cNvSpPr/>
          <p:nvPr/>
        </p:nvSpPr>
        <p:spPr>
          <a:xfrm>
            <a:off x="7095600" y="6555240"/>
            <a:ext cx="2787120" cy="1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Daily Drilling Report 1.2.0 Elements, Yao Bo Lu, 11/05.20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Slide Number Placeholder 4"/>
          <p:cNvSpPr/>
          <p:nvPr/>
        </p:nvSpPr>
        <p:spPr>
          <a:xfrm>
            <a:off x="9505440" y="6733080"/>
            <a:ext cx="536040" cy="1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771ED-CAA0-4DFD-B3E4-1E2BC7304CBC}" type="slidenum"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Date Placeholder 5"/>
          <p:cNvSpPr/>
          <p:nvPr/>
        </p:nvSpPr>
        <p:spPr>
          <a:xfrm>
            <a:off x="6788160" y="6692760"/>
            <a:ext cx="287964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© 2010 Capgemini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1" name="Content Placeholder 8" descr="bitrecord.png"/>
          <p:cNvPicPr/>
          <p:nvPr/>
        </p:nvPicPr>
        <p:blipFill>
          <a:blip r:embed="rId1"/>
          <a:stretch/>
        </p:blipFill>
        <p:spPr>
          <a:xfrm>
            <a:off x="344520" y="2998800"/>
            <a:ext cx="921708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1187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252000" bIns="36000" anchor="ctr">
            <a:noAutofit/>
          </a:bodyPr>
          <a:p>
            <a:pPr marL="7142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000" spc="-1" strike="noStrike">
                <a:solidFill>
                  <a:srgbClr val="009bcc"/>
                </a:solidFill>
                <a:latin typeface="Arial Narrow"/>
              </a:rPr>
              <a:t>Hours drilled</a:t>
            </a:r>
            <a:endParaRPr b="1" lang="en-US" sz="3000" spc="-1" strike="noStrike">
              <a:solidFill>
                <a:srgbClr val="009bcc"/>
              </a:solidFill>
              <a:latin typeface="Arial Narrow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-360" y="1439640"/>
            <a:ext cx="9906120" cy="4679640"/>
          </a:xfrm>
          <a:prstGeom prst="rect">
            <a:avLst/>
          </a:prstGeom>
          <a:noFill/>
          <a:ln w="0">
            <a:noFill/>
          </a:ln>
        </p:spPr>
        <p:txBody>
          <a:bodyPr lIns="288000" rIns="72000" tIns="36000" bIns="360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Name: eTimOp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Type: timeMeasureH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minOccurs: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maxOccurs: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Description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ting time spent by bit during the reporting peri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Example input value: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Example output value: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Footer Placeholder 3"/>
          <p:cNvSpPr/>
          <p:nvPr/>
        </p:nvSpPr>
        <p:spPr>
          <a:xfrm>
            <a:off x="8637840" y="6555240"/>
            <a:ext cx="1255320" cy="1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Insert "Title, Author, Dat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Slide Number Placeholder 4"/>
          <p:cNvSpPr/>
          <p:nvPr/>
        </p:nvSpPr>
        <p:spPr>
          <a:xfrm>
            <a:off x="9505440" y="6733080"/>
            <a:ext cx="536040" cy="1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737DD-60D9-4B0F-AF27-81B842141137}" type="slidenum"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Date Placeholder 5"/>
          <p:cNvSpPr/>
          <p:nvPr/>
        </p:nvSpPr>
        <p:spPr>
          <a:xfrm>
            <a:off x="6788160" y="6692760"/>
            <a:ext cx="287964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© 2010 Capgemini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1187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252000" bIns="36000" anchor="ctr">
            <a:noAutofit/>
          </a:bodyPr>
          <a:p>
            <a:pPr marL="7142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000" spc="-1" strike="noStrike">
                <a:solidFill>
                  <a:srgbClr val="009bcc"/>
                </a:solidFill>
                <a:latin typeface="Arial Narrow"/>
              </a:rPr>
              <a:t>MD Start</a:t>
            </a:r>
            <a:endParaRPr b="1" lang="en-US" sz="3000" spc="-1" strike="noStrike">
              <a:solidFill>
                <a:srgbClr val="009bcc"/>
              </a:solidFill>
              <a:latin typeface="Arial Narrow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-360" y="1439640"/>
            <a:ext cx="9906120" cy="4679640"/>
          </a:xfrm>
          <a:prstGeom prst="rect">
            <a:avLst/>
          </a:prstGeom>
          <a:noFill/>
          <a:ln w="0">
            <a:noFill/>
          </a:ln>
        </p:spPr>
        <p:txBody>
          <a:bodyPr lIns="288000" rIns="72000" tIns="36000" bIns="360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Name: mdHole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Type: measuredDepthCo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minOccurs: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maxOccurs: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Description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d depth at start of reporting peri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Example input value: 1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Example output value: 1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Footer Placeholder 3"/>
          <p:cNvSpPr/>
          <p:nvPr/>
        </p:nvSpPr>
        <p:spPr>
          <a:xfrm>
            <a:off x="8637840" y="6555240"/>
            <a:ext cx="1255320" cy="1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Insert "Title, Author, Dat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Slide Number Placeholder 4"/>
          <p:cNvSpPr/>
          <p:nvPr/>
        </p:nvSpPr>
        <p:spPr>
          <a:xfrm>
            <a:off x="9505440" y="6733080"/>
            <a:ext cx="536040" cy="1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A61D7-BF3D-4098-A84F-AC074270F819}" type="slidenum"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Date Placeholder 5"/>
          <p:cNvSpPr/>
          <p:nvPr/>
        </p:nvSpPr>
        <p:spPr>
          <a:xfrm>
            <a:off x="6788160" y="6692760"/>
            <a:ext cx="287964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© 2010 Capgemini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1187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252000" bIns="36000" anchor="ctr">
            <a:noAutofit/>
          </a:bodyPr>
          <a:p>
            <a:pPr marL="7142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000" spc="-1" strike="noStrike">
                <a:solidFill>
                  <a:srgbClr val="009bcc"/>
                </a:solidFill>
                <a:latin typeface="Arial Narrow"/>
              </a:rPr>
              <a:t>Header</a:t>
            </a:r>
            <a:endParaRPr b="1" lang="en-US" sz="3000" spc="-1" strike="noStrike">
              <a:solidFill>
                <a:srgbClr val="009bcc"/>
              </a:solidFill>
              <a:latin typeface="Arial Narrow"/>
            </a:endParaRPr>
          </a:p>
        </p:txBody>
      </p:sp>
      <p:pic>
        <p:nvPicPr>
          <p:cNvPr id="423" name="Content Placeholder 6" descr="header.png"/>
          <p:cNvPicPr/>
          <p:nvPr/>
        </p:nvPicPr>
        <p:blipFill>
          <a:blip r:embed="rId1"/>
          <a:stretch/>
        </p:blipFill>
        <p:spPr>
          <a:xfrm>
            <a:off x="304920" y="1798560"/>
            <a:ext cx="9296280" cy="3962520"/>
          </a:xfrm>
          <a:prstGeom prst="rect">
            <a:avLst/>
          </a:prstGeom>
          <a:ln w="0">
            <a:noFill/>
          </a:ln>
        </p:spPr>
      </p:pic>
      <p:sp>
        <p:nvSpPr>
          <p:cNvPr id="424" name="Espace réservé du pied de page 3"/>
          <p:cNvSpPr/>
          <p:nvPr/>
        </p:nvSpPr>
        <p:spPr>
          <a:xfrm>
            <a:off x="7095600" y="6555240"/>
            <a:ext cx="2787120" cy="1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Daily Drilling Report 1.2.0 Elements, Yao Bo Lu, 11/05.20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Espace réservé du numéro de diapositive 4"/>
          <p:cNvSpPr/>
          <p:nvPr/>
        </p:nvSpPr>
        <p:spPr>
          <a:xfrm>
            <a:off x="9505440" y="6733080"/>
            <a:ext cx="536040" cy="1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049C8-DA4C-4794-B9D0-7DE0C37BC8B8}" type="slidenum"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Espace réservé de la date 5"/>
          <p:cNvSpPr/>
          <p:nvPr/>
        </p:nvSpPr>
        <p:spPr>
          <a:xfrm>
            <a:off x="6788160" y="6692760"/>
            <a:ext cx="287964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© 2010 Capgemini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1187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252000" bIns="36000" anchor="ctr">
            <a:noAutofit/>
          </a:bodyPr>
          <a:p>
            <a:pPr marL="7142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000" spc="-1" strike="noStrike">
                <a:solidFill>
                  <a:srgbClr val="009bcc"/>
                </a:solidFill>
                <a:latin typeface="Arial Narrow"/>
              </a:rPr>
              <a:t>MD end</a:t>
            </a:r>
            <a:endParaRPr b="1" lang="en-US" sz="3000" spc="-1" strike="noStrike">
              <a:solidFill>
                <a:srgbClr val="009bcc"/>
              </a:solidFill>
              <a:latin typeface="Arial Narrow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-360" y="1439640"/>
            <a:ext cx="9906120" cy="4679640"/>
          </a:xfrm>
          <a:prstGeom prst="rect">
            <a:avLst/>
          </a:prstGeom>
          <a:noFill/>
          <a:ln w="0">
            <a:noFill/>
          </a:ln>
        </p:spPr>
        <p:txBody>
          <a:bodyPr lIns="288000" rIns="72000" tIns="36000" bIns="360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Name: mdHole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Type: measuredDepthCo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minOccurs: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maxOccurs: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Description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d depth at end of reporting peri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Example input value: 1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Example output value: 1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Footer Placeholder 3"/>
          <p:cNvSpPr/>
          <p:nvPr/>
        </p:nvSpPr>
        <p:spPr>
          <a:xfrm>
            <a:off x="8637840" y="6555240"/>
            <a:ext cx="1255320" cy="1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Insert "Title, Author, Dat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lide Number Placeholder 4"/>
          <p:cNvSpPr/>
          <p:nvPr/>
        </p:nvSpPr>
        <p:spPr>
          <a:xfrm>
            <a:off x="9505440" y="6733080"/>
            <a:ext cx="536040" cy="1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115E5-7742-4589-8675-4D6E7594F0F0}" type="slidenum"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Date Placeholder 5"/>
          <p:cNvSpPr/>
          <p:nvPr/>
        </p:nvSpPr>
        <p:spPr>
          <a:xfrm>
            <a:off x="6788160" y="6692760"/>
            <a:ext cx="287964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© 2010 Capgemini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1187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252000" bIns="36000" anchor="ctr">
            <a:noAutofit/>
          </a:bodyPr>
          <a:p>
            <a:pPr marL="7142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000" spc="-1" strike="noStrike">
                <a:solidFill>
                  <a:srgbClr val="009bcc"/>
                </a:solidFill>
                <a:latin typeface="Arial Narrow"/>
              </a:rPr>
              <a:t>Dull grade</a:t>
            </a:r>
            <a:endParaRPr b="1" lang="en-US" sz="3000" spc="-1" strike="noStrike">
              <a:solidFill>
                <a:srgbClr val="009bcc"/>
              </a:solidFill>
              <a:latin typeface="Arial Narrow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-360" y="1439640"/>
            <a:ext cx="9906120" cy="4679640"/>
          </a:xfrm>
          <a:prstGeom prst="rect">
            <a:avLst/>
          </a:prstGeom>
          <a:noFill/>
          <a:ln w="0">
            <a:noFill/>
          </a:ln>
        </p:spPr>
        <p:txBody>
          <a:bodyPr lIns="288000" rIns="72000" tIns="36000" bIns="360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Name: dullGr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Type: str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minOccurs: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maxOccurs: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Description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ish, interrupted, failed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Example input value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/3/NO/A/X/I/NO/DT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Example output value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/3/NO/A/X/I/NO/DT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Footer Placeholder 3"/>
          <p:cNvSpPr/>
          <p:nvPr/>
        </p:nvSpPr>
        <p:spPr>
          <a:xfrm>
            <a:off x="8637840" y="6555240"/>
            <a:ext cx="1255320" cy="1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Insert "Title, Author, Dat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Slide Number Placeholder 4"/>
          <p:cNvSpPr/>
          <p:nvPr/>
        </p:nvSpPr>
        <p:spPr>
          <a:xfrm>
            <a:off x="9505440" y="6733080"/>
            <a:ext cx="536040" cy="1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94B4A-C787-44FB-9B57-53084EE7EDFA}" type="slidenum"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Date Placeholder 5"/>
          <p:cNvSpPr/>
          <p:nvPr/>
        </p:nvSpPr>
        <p:spPr>
          <a:xfrm>
            <a:off x="6788160" y="6692760"/>
            <a:ext cx="287964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© 2010 Capgemini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1187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252000" bIns="36000" anchor="ctr">
            <a:noAutofit/>
          </a:bodyPr>
          <a:p>
            <a:pPr marL="7142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000" spc="-1" strike="noStrike">
                <a:solidFill>
                  <a:srgbClr val="009bcc"/>
                </a:solidFill>
                <a:latin typeface="Arial Narrow"/>
              </a:rPr>
              <a:t>Hole Made (Last 24H)</a:t>
            </a:r>
            <a:endParaRPr b="1" lang="en-US" sz="3000" spc="-1" strike="noStrike">
              <a:solidFill>
                <a:srgbClr val="009bcc"/>
              </a:solidFill>
              <a:latin typeface="Arial Narrow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-360" y="1439640"/>
            <a:ext cx="9906120" cy="4679640"/>
          </a:xfrm>
          <a:prstGeom prst="rect">
            <a:avLst/>
          </a:prstGeom>
          <a:noFill/>
          <a:ln w="0">
            <a:noFill/>
          </a:ln>
        </p:spPr>
        <p:txBody>
          <a:bodyPr lIns="288000" rIns="72000" tIns="36000" bIns="360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Type: Calculated f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Example output value: 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Footer Placeholder 3"/>
          <p:cNvSpPr/>
          <p:nvPr/>
        </p:nvSpPr>
        <p:spPr>
          <a:xfrm>
            <a:off x="8637840" y="6555240"/>
            <a:ext cx="1255320" cy="1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Insert "Title, Author, Dat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Slide Number Placeholder 4"/>
          <p:cNvSpPr/>
          <p:nvPr/>
        </p:nvSpPr>
        <p:spPr>
          <a:xfrm>
            <a:off x="9505440" y="6733080"/>
            <a:ext cx="536040" cy="1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01EC3-E551-4E58-A364-4CE50884E135}" type="slidenum"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Date Placeholder 5"/>
          <p:cNvSpPr/>
          <p:nvPr/>
        </p:nvSpPr>
        <p:spPr>
          <a:xfrm>
            <a:off x="6788160" y="6692760"/>
            <a:ext cx="287964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© 2010 Capgemini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1187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252000" bIns="36000" anchor="ctr">
            <a:noAutofit/>
          </a:bodyPr>
          <a:p>
            <a:pPr marL="7142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000" spc="-1" strike="noStrike">
                <a:solidFill>
                  <a:srgbClr val="009bcc"/>
                </a:solidFill>
                <a:latin typeface="Arial Narrow"/>
              </a:rPr>
              <a:t>Hours drilled (Last 24H)</a:t>
            </a:r>
            <a:endParaRPr b="1" lang="en-US" sz="3000" spc="-1" strike="noStrike">
              <a:solidFill>
                <a:srgbClr val="009bcc"/>
              </a:solidFill>
              <a:latin typeface="Arial Narrow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-360" y="1439640"/>
            <a:ext cx="9906120" cy="4679640"/>
          </a:xfrm>
          <a:prstGeom prst="rect">
            <a:avLst/>
          </a:prstGeom>
          <a:noFill/>
          <a:ln w="0">
            <a:noFill/>
          </a:ln>
        </p:spPr>
        <p:txBody>
          <a:bodyPr lIns="288000" rIns="72000" tIns="36000" bIns="360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Name: eTinOp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Type: timeMeasureH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minOccurs: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maxOccurs: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Description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ting time spent by bit during the reporting peri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Example input value: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Example output value: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Footer Placeholder 3"/>
          <p:cNvSpPr/>
          <p:nvPr/>
        </p:nvSpPr>
        <p:spPr>
          <a:xfrm>
            <a:off x="8637840" y="6555240"/>
            <a:ext cx="1255320" cy="1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Insert "Title, Author, Dat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Slide Number Placeholder 4"/>
          <p:cNvSpPr/>
          <p:nvPr/>
        </p:nvSpPr>
        <p:spPr>
          <a:xfrm>
            <a:off x="9505440" y="6733080"/>
            <a:ext cx="536040" cy="1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31DD2-1B99-4FF5-8F56-77E637418959}" type="slidenum"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Date Placeholder 5"/>
          <p:cNvSpPr/>
          <p:nvPr/>
        </p:nvSpPr>
        <p:spPr>
          <a:xfrm>
            <a:off x="6788160" y="6692760"/>
            <a:ext cx="287964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© 2010 Capgemini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1187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252000" bIns="36000" anchor="ctr">
            <a:noAutofit/>
          </a:bodyPr>
          <a:p>
            <a:pPr marL="7142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000" spc="-1" strike="noStrike">
                <a:solidFill>
                  <a:srgbClr val="009bcc"/>
                </a:solidFill>
                <a:latin typeface="Arial Narrow"/>
              </a:rPr>
              <a:t>ROP (Last 24H)</a:t>
            </a:r>
            <a:endParaRPr b="1" lang="en-US" sz="3000" spc="-1" strike="noStrike">
              <a:solidFill>
                <a:srgbClr val="009bcc"/>
              </a:solidFill>
              <a:latin typeface="Arial Narrow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-360" y="1439640"/>
            <a:ext cx="9906120" cy="4679640"/>
          </a:xfrm>
          <a:prstGeom prst="rect">
            <a:avLst/>
          </a:prstGeom>
          <a:noFill/>
          <a:ln w="0">
            <a:noFill/>
          </a:ln>
        </p:spPr>
        <p:txBody>
          <a:bodyPr lIns="288000" rIns="72000" tIns="36000" bIns="360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Name: ropA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Type: velocityMeasureMetresPerH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minOccurs: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maxOccurs: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Description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rate of penetration through Interv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Example input value: 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Example output value: 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Footer Placeholder 3"/>
          <p:cNvSpPr/>
          <p:nvPr/>
        </p:nvSpPr>
        <p:spPr>
          <a:xfrm>
            <a:off x="8637840" y="6555240"/>
            <a:ext cx="1255320" cy="1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Insert "Title, Author, Dat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Slide Number Placeholder 4"/>
          <p:cNvSpPr/>
          <p:nvPr/>
        </p:nvSpPr>
        <p:spPr>
          <a:xfrm>
            <a:off x="9505440" y="6733080"/>
            <a:ext cx="536040" cy="1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97FE3-83D4-4221-B004-31FA70052F70}" type="slidenum"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Date Placeholder 5"/>
          <p:cNvSpPr/>
          <p:nvPr/>
        </p:nvSpPr>
        <p:spPr>
          <a:xfrm>
            <a:off x="6788160" y="6692760"/>
            <a:ext cx="287964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© 2010 Capgemini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1187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252000" bIns="36000" anchor="ctr">
            <a:noAutofit/>
          </a:bodyPr>
          <a:p>
            <a:pPr marL="7142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000" spc="-1" strike="noStrike">
                <a:solidFill>
                  <a:srgbClr val="009bcc"/>
                </a:solidFill>
                <a:latin typeface="Arial Narrow"/>
              </a:rPr>
              <a:t>Total Hole Made</a:t>
            </a:r>
            <a:endParaRPr b="1" lang="en-US" sz="3000" spc="-1" strike="noStrike">
              <a:solidFill>
                <a:srgbClr val="009bcc"/>
              </a:solidFill>
              <a:latin typeface="Arial Narrow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-360" y="1439640"/>
            <a:ext cx="9906120" cy="4679640"/>
          </a:xfrm>
          <a:prstGeom prst="rect">
            <a:avLst/>
          </a:prstGeom>
          <a:noFill/>
          <a:ln w="0">
            <a:noFill/>
          </a:ln>
        </p:spPr>
        <p:txBody>
          <a:bodyPr lIns="288000" rIns="72000" tIns="36000" bIns="360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Name: mdTotHoleM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Type: measuredDepthCo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minOccurs: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maxOccurs: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Description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accumulated Measured depth for the entire ru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Example input value: 1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Example output value: 1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Footer Placeholder 3"/>
          <p:cNvSpPr/>
          <p:nvPr/>
        </p:nvSpPr>
        <p:spPr>
          <a:xfrm>
            <a:off x="8637840" y="6555240"/>
            <a:ext cx="1255320" cy="1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Insert "Title, Author, Dat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Slide Number Placeholder 4"/>
          <p:cNvSpPr/>
          <p:nvPr/>
        </p:nvSpPr>
        <p:spPr>
          <a:xfrm>
            <a:off x="9505440" y="6733080"/>
            <a:ext cx="536040" cy="1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E7B17-F41A-4212-9A7F-937AA27A3595}" type="slidenum"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Date Placeholder 5"/>
          <p:cNvSpPr/>
          <p:nvPr/>
        </p:nvSpPr>
        <p:spPr>
          <a:xfrm>
            <a:off x="6788160" y="6692760"/>
            <a:ext cx="287964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© 2010 Capgemini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1187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252000" bIns="36000" anchor="ctr">
            <a:noAutofit/>
          </a:bodyPr>
          <a:p>
            <a:pPr marL="7142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000" spc="-1" strike="noStrike">
                <a:solidFill>
                  <a:srgbClr val="009bcc"/>
                </a:solidFill>
                <a:latin typeface="Arial Narrow"/>
              </a:rPr>
              <a:t>Total hours drilled</a:t>
            </a:r>
            <a:endParaRPr b="1" lang="en-US" sz="3000" spc="-1" strike="noStrike">
              <a:solidFill>
                <a:srgbClr val="009bcc"/>
              </a:solidFill>
              <a:latin typeface="Arial Narrow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-360" y="1439640"/>
            <a:ext cx="9906120" cy="4679640"/>
          </a:xfrm>
          <a:prstGeom prst="rect">
            <a:avLst/>
          </a:prstGeom>
          <a:noFill/>
          <a:ln w="0">
            <a:noFill/>
          </a:ln>
        </p:spPr>
        <p:txBody>
          <a:bodyPr lIns="288000" rIns="72000" tIns="36000" bIns="360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Name: totHrsDril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Type: timeMeasureH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minOccurs: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maxOccurs: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Description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accumulated Hours of drilling for the entire ru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Example input value: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Example output value: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Footer Placeholder 3"/>
          <p:cNvSpPr/>
          <p:nvPr/>
        </p:nvSpPr>
        <p:spPr>
          <a:xfrm>
            <a:off x="8637840" y="6555240"/>
            <a:ext cx="1255320" cy="1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Insert "Title, Author, Dat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Slide Number Placeholder 4"/>
          <p:cNvSpPr/>
          <p:nvPr/>
        </p:nvSpPr>
        <p:spPr>
          <a:xfrm>
            <a:off x="9505440" y="6733080"/>
            <a:ext cx="536040" cy="1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C2934-79C9-4703-9C51-B9A67EBBE3BB}" type="slidenum"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Date Placeholder 5"/>
          <p:cNvSpPr/>
          <p:nvPr/>
        </p:nvSpPr>
        <p:spPr>
          <a:xfrm>
            <a:off x="6788160" y="6692760"/>
            <a:ext cx="287964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© 2010 Capgemini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1187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252000" bIns="36000" anchor="ctr">
            <a:noAutofit/>
          </a:bodyPr>
          <a:p>
            <a:pPr marL="7142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000" spc="-1" strike="noStrike">
                <a:solidFill>
                  <a:srgbClr val="009bcc"/>
                </a:solidFill>
                <a:latin typeface="Arial Narrow"/>
              </a:rPr>
              <a:t>Total ROP</a:t>
            </a:r>
            <a:endParaRPr b="1" lang="en-US" sz="3000" spc="-1" strike="noStrike">
              <a:solidFill>
                <a:srgbClr val="009bcc"/>
              </a:solidFill>
              <a:latin typeface="Arial Narrow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-360" y="1439640"/>
            <a:ext cx="9906120" cy="4679640"/>
          </a:xfrm>
          <a:prstGeom prst="rect">
            <a:avLst/>
          </a:prstGeom>
          <a:noFill/>
          <a:ln w="0">
            <a:noFill/>
          </a:ln>
        </p:spPr>
        <p:txBody>
          <a:bodyPr lIns="288000" rIns="72000" tIns="36000" bIns="360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Name: totR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Type: velocityMeasureMetresPerH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minOccurs: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maxOccurs: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Description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accumulated Rate of penetration for the entire ru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Example input value: 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Example output value: 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Footer Placeholder 3"/>
          <p:cNvSpPr/>
          <p:nvPr/>
        </p:nvSpPr>
        <p:spPr>
          <a:xfrm>
            <a:off x="8637840" y="6555240"/>
            <a:ext cx="1255320" cy="1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Insert "Title, Author, Dat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Slide Number Placeholder 4"/>
          <p:cNvSpPr/>
          <p:nvPr/>
        </p:nvSpPr>
        <p:spPr>
          <a:xfrm>
            <a:off x="9505440" y="6733080"/>
            <a:ext cx="536040" cy="1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29B7A-E10A-41B0-9921-97C931F0F9A5}" type="slidenum"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Date Placeholder 5"/>
          <p:cNvSpPr/>
          <p:nvPr/>
        </p:nvSpPr>
        <p:spPr>
          <a:xfrm>
            <a:off x="6788160" y="6692760"/>
            <a:ext cx="287964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© 2010 Capgemini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1187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252000" bIns="36000" anchor="ctr">
            <a:noAutofit/>
          </a:bodyPr>
          <a:p>
            <a:pPr marL="7142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9bcc"/>
                </a:solidFill>
                <a:latin typeface="Arial Narrow"/>
              </a:rPr>
              <a:t>Casing/Liner/Tubing information</a:t>
            </a:r>
            <a:endParaRPr b="1" lang="en-US" sz="3000" spc="-1" strike="noStrike">
              <a:solidFill>
                <a:srgbClr val="009bcc"/>
              </a:solidFill>
              <a:latin typeface="Arial Narrow"/>
            </a:endParaRPr>
          </a:p>
        </p:txBody>
      </p:sp>
      <p:pic>
        <p:nvPicPr>
          <p:cNvPr id="553" name="Content Placeholder 6" descr="casinglinertubing.png"/>
          <p:cNvPicPr/>
          <p:nvPr/>
        </p:nvPicPr>
        <p:blipFill>
          <a:blip r:embed="rId1"/>
          <a:stretch/>
        </p:blipFill>
        <p:spPr>
          <a:xfrm>
            <a:off x="2252520" y="2960640"/>
            <a:ext cx="5400720" cy="1638360"/>
          </a:xfrm>
          <a:prstGeom prst="rect">
            <a:avLst/>
          </a:prstGeom>
          <a:ln w="0">
            <a:noFill/>
          </a:ln>
        </p:spPr>
      </p:pic>
      <p:sp>
        <p:nvSpPr>
          <p:cNvPr id="554" name="Footer Placeholder 3"/>
          <p:cNvSpPr/>
          <p:nvPr/>
        </p:nvSpPr>
        <p:spPr>
          <a:xfrm>
            <a:off x="7095600" y="6555240"/>
            <a:ext cx="2787120" cy="1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Daily Drilling Report 1.2.0 Elements, Yao Bo Lu, 11/05.20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Slide Number Placeholder 4"/>
          <p:cNvSpPr/>
          <p:nvPr/>
        </p:nvSpPr>
        <p:spPr>
          <a:xfrm>
            <a:off x="9505440" y="6733080"/>
            <a:ext cx="536040" cy="1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AED23-2B5D-4AFF-BAC0-A75D9D3971E8}" type="slidenum"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Date Placeholder 5"/>
          <p:cNvSpPr/>
          <p:nvPr/>
        </p:nvSpPr>
        <p:spPr>
          <a:xfrm>
            <a:off x="6788160" y="6692760"/>
            <a:ext cx="287964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© 2010 Capgemini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1187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252000" bIns="36000" anchor="ctr">
            <a:noAutofit/>
          </a:bodyPr>
          <a:p>
            <a:pPr marL="7142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000" spc="-1" strike="noStrike">
                <a:solidFill>
                  <a:srgbClr val="009bcc"/>
                </a:solidFill>
                <a:latin typeface="Arial Narrow"/>
              </a:rPr>
              <a:t>Type of pipe</a:t>
            </a:r>
            <a:endParaRPr b="1" lang="en-US" sz="3000" spc="-1" strike="noStrike">
              <a:solidFill>
                <a:srgbClr val="009bcc"/>
              </a:solidFill>
              <a:latin typeface="Arial Narrow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-360" y="1439640"/>
            <a:ext cx="9906120" cy="4679640"/>
          </a:xfrm>
          <a:prstGeom prst="rect">
            <a:avLst/>
          </a:prstGeom>
          <a:noFill/>
          <a:ln w="0">
            <a:noFill/>
          </a:ln>
        </p:spPr>
        <p:txBody>
          <a:bodyPr lIns="288000" rIns="72000" tIns="36000" bIns="360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Name: 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Type: tubular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minOccurs: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maxOccurs: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Description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ype of tubular (e.g., casing, tubing, liner, packer, open hole, other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Example input value: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Example output value: ca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Footer Placeholder 3"/>
          <p:cNvSpPr/>
          <p:nvPr/>
        </p:nvSpPr>
        <p:spPr>
          <a:xfrm>
            <a:off x="8637840" y="6555240"/>
            <a:ext cx="1255320" cy="1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Insert "Title, Author, Dat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Slide Number Placeholder 4"/>
          <p:cNvSpPr/>
          <p:nvPr/>
        </p:nvSpPr>
        <p:spPr>
          <a:xfrm>
            <a:off x="9505440" y="6733080"/>
            <a:ext cx="536040" cy="1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4FCE9-E2E6-4D39-A6FF-D0148BEA96F8}" type="slidenum"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Date Placeholder 5"/>
          <p:cNvSpPr/>
          <p:nvPr/>
        </p:nvSpPr>
        <p:spPr>
          <a:xfrm>
            <a:off x="6788160" y="6692760"/>
            <a:ext cx="287964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© 2010 Capgemini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1187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252000" bIns="36000" anchor="ctr">
            <a:noAutofit/>
          </a:bodyPr>
          <a:p>
            <a:pPr marL="7142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000" spc="-1" strike="noStrike">
                <a:solidFill>
                  <a:srgbClr val="009bcc"/>
                </a:solidFill>
                <a:latin typeface="Arial Narrow"/>
              </a:rPr>
              <a:t>Report No</a:t>
            </a:r>
            <a:endParaRPr b="1" lang="en-US" sz="3000" spc="-1" strike="noStrike">
              <a:solidFill>
                <a:srgbClr val="009bcc"/>
              </a:solidFill>
              <a:latin typeface="Arial Narrow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-360" y="1439640"/>
            <a:ext cx="9906120" cy="4679640"/>
          </a:xfrm>
          <a:prstGeom prst="rect">
            <a:avLst/>
          </a:prstGeom>
          <a:noFill/>
          <a:ln w="0">
            <a:noFill/>
          </a:ln>
        </p:spPr>
        <p:txBody>
          <a:bodyPr lIns="288000" rIns="72000" tIns="36000" bIns="360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report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Type: positiveCou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minOccurs: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maxOccurs: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Description: Sequence number of daily drilling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Example input value: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Example output value: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Footer Placeholder 3"/>
          <p:cNvSpPr/>
          <p:nvPr/>
        </p:nvSpPr>
        <p:spPr>
          <a:xfrm>
            <a:off x="8637840" y="6555240"/>
            <a:ext cx="1255320" cy="1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Insert "Title, Author, Dat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Slide Number Placeholder 4"/>
          <p:cNvSpPr/>
          <p:nvPr/>
        </p:nvSpPr>
        <p:spPr>
          <a:xfrm>
            <a:off x="9505440" y="6733080"/>
            <a:ext cx="536040" cy="1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03C69-FB8E-4A83-9C9E-38048CFA864A}" type="slidenum"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Date Placeholder 5"/>
          <p:cNvSpPr/>
          <p:nvPr/>
        </p:nvSpPr>
        <p:spPr>
          <a:xfrm>
            <a:off x="6788160" y="6692760"/>
            <a:ext cx="287964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© 2010 Capgemini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1187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252000" bIns="36000" anchor="ctr">
            <a:noAutofit/>
          </a:bodyPr>
          <a:p>
            <a:pPr marL="7142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000" spc="-1" strike="noStrike">
                <a:solidFill>
                  <a:srgbClr val="009bcc"/>
                </a:solidFill>
                <a:latin typeface="Arial Narrow"/>
              </a:rPr>
              <a:t>Nominal outside diameter</a:t>
            </a:r>
            <a:endParaRPr b="1" lang="en-US" sz="3000" spc="-1" strike="noStrike">
              <a:solidFill>
                <a:srgbClr val="009bcc"/>
              </a:solidFill>
              <a:latin typeface="Arial Narrow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-360" y="1439640"/>
            <a:ext cx="9906120" cy="4679640"/>
          </a:xfrm>
          <a:prstGeom prst="rect">
            <a:avLst/>
          </a:prstGeom>
          <a:noFill/>
          <a:ln w="0">
            <a:noFill/>
          </a:ln>
        </p:spPr>
        <p:txBody>
          <a:bodyPr lIns="288000" rIns="72000" tIns="36000" bIns="360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Name: 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Type: lengthMeasureIn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minOccurs: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maxOccurs: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Description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utside diameter of the tubular u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Example input value: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Example output value: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Footer Placeholder 3"/>
          <p:cNvSpPr/>
          <p:nvPr/>
        </p:nvSpPr>
        <p:spPr>
          <a:xfrm>
            <a:off x="8637840" y="6555240"/>
            <a:ext cx="1255320" cy="1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Insert "Title, Author, Dat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Slide Number Placeholder 4"/>
          <p:cNvSpPr/>
          <p:nvPr/>
        </p:nvSpPr>
        <p:spPr>
          <a:xfrm>
            <a:off x="9505440" y="6733080"/>
            <a:ext cx="536040" cy="1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566C3-33BC-47F4-98AC-CB2991C2BA70}" type="slidenum"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Date Placeholder 5"/>
          <p:cNvSpPr/>
          <p:nvPr/>
        </p:nvSpPr>
        <p:spPr>
          <a:xfrm>
            <a:off x="6788160" y="6692760"/>
            <a:ext cx="287964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© 2010 Capgemini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1187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252000" bIns="36000" anchor="ctr">
            <a:noAutofit/>
          </a:bodyPr>
          <a:p>
            <a:pPr marL="7142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000" spc="-1" strike="noStrike">
                <a:solidFill>
                  <a:srgbClr val="009bcc"/>
                </a:solidFill>
                <a:latin typeface="Arial Narrow"/>
              </a:rPr>
              <a:t>Nominal inside diameter</a:t>
            </a:r>
            <a:endParaRPr b="1" lang="en-US" sz="3000" spc="-1" strike="noStrike">
              <a:solidFill>
                <a:srgbClr val="009bcc"/>
              </a:solidFill>
              <a:latin typeface="Arial Narrow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-360" y="1439640"/>
            <a:ext cx="9906120" cy="4679640"/>
          </a:xfrm>
          <a:prstGeom prst="rect">
            <a:avLst/>
          </a:prstGeom>
          <a:noFill/>
          <a:ln w="0">
            <a:noFill/>
          </a:ln>
        </p:spPr>
        <p:txBody>
          <a:bodyPr lIns="288000" rIns="72000" tIns="36000" bIns="360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Name: 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Type: lengthMeasureIn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minOccurs: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maxOccurs: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Description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side diameter of the tubular u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Example input value: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Example output value: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Footer Placeholder 3"/>
          <p:cNvSpPr/>
          <p:nvPr/>
        </p:nvSpPr>
        <p:spPr>
          <a:xfrm>
            <a:off x="8637840" y="6555240"/>
            <a:ext cx="1255320" cy="1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Insert "Title, Author, Dat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Slide Number Placeholder 4"/>
          <p:cNvSpPr/>
          <p:nvPr/>
        </p:nvSpPr>
        <p:spPr>
          <a:xfrm>
            <a:off x="9505440" y="6733080"/>
            <a:ext cx="536040" cy="1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FB09C-0D00-4E90-A329-50209AD00C26}" type="slidenum"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Date Placeholder 5"/>
          <p:cNvSpPr/>
          <p:nvPr/>
        </p:nvSpPr>
        <p:spPr>
          <a:xfrm>
            <a:off x="6788160" y="6692760"/>
            <a:ext cx="287964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© 2010 Capgemini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1187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252000" bIns="36000" anchor="ctr">
            <a:noAutofit/>
          </a:bodyPr>
          <a:p>
            <a:pPr marL="7142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000" spc="-1" strike="noStrike">
                <a:solidFill>
                  <a:srgbClr val="009bcc"/>
                </a:solidFill>
                <a:latin typeface="Arial Narrow"/>
              </a:rPr>
              <a:t>Nominal Weight</a:t>
            </a:r>
            <a:endParaRPr b="1" lang="en-US" sz="3000" spc="-1" strike="noStrike">
              <a:solidFill>
                <a:srgbClr val="009bcc"/>
              </a:solidFill>
              <a:latin typeface="Arial Narrow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-360" y="1439640"/>
            <a:ext cx="9906120" cy="4679640"/>
          </a:xfrm>
          <a:prstGeom prst="rect">
            <a:avLst/>
          </a:prstGeom>
          <a:noFill/>
          <a:ln w="0">
            <a:noFill/>
          </a:ln>
        </p:spPr>
        <p:txBody>
          <a:bodyPr lIns="288000" rIns="72000" tIns="36000" bIns="360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Name: we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Type: massPerLengthMeasurePoundsMassPerFo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minOccurs: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maxOccurs: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Description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weight per length of the tubul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Example input value: 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Example output value: 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Footer Placeholder 3"/>
          <p:cNvSpPr/>
          <p:nvPr/>
        </p:nvSpPr>
        <p:spPr>
          <a:xfrm>
            <a:off x="8637840" y="6555240"/>
            <a:ext cx="1255320" cy="1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Insert "Title, Author, Dat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Slide Number Placeholder 4"/>
          <p:cNvSpPr/>
          <p:nvPr/>
        </p:nvSpPr>
        <p:spPr>
          <a:xfrm>
            <a:off x="9505440" y="6733080"/>
            <a:ext cx="536040" cy="1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01EE8-599A-48EC-9918-2B547D674D01}" type="slidenum"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Date Placeholder 5"/>
          <p:cNvSpPr/>
          <p:nvPr/>
        </p:nvSpPr>
        <p:spPr>
          <a:xfrm>
            <a:off x="6788160" y="6692760"/>
            <a:ext cx="287964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© 2010 Capgemini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1187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252000" bIns="36000" anchor="ctr">
            <a:noAutofit/>
          </a:bodyPr>
          <a:p>
            <a:pPr marL="7142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000" spc="-1" strike="noStrike">
                <a:solidFill>
                  <a:srgbClr val="009bcc"/>
                </a:solidFill>
                <a:latin typeface="Arial Narrow"/>
              </a:rPr>
              <a:t>Nominal Grade</a:t>
            </a:r>
            <a:endParaRPr b="1" lang="en-US" sz="3000" spc="-1" strike="noStrike">
              <a:solidFill>
                <a:srgbClr val="009bcc"/>
              </a:solidFill>
              <a:latin typeface="Arial Narrow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-360" y="1439640"/>
            <a:ext cx="9906120" cy="4679640"/>
          </a:xfrm>
          <a:prstGeom prst="rect">
            <a:avLst/>
          </a:prstGeom>
          <a:noFill/>
          <a:ln w="0">
            <a:noFill/>
          </a:ln>
        </p:spPr>
        <p:txBody>
          <a:bodyPr lIns="288000" rIns="72000" tIns="36000" bIns="360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Name: gr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Type: str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minOccurs: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maxOccurs: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Description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'code string class' that is representing members of 'API 5CT 7th. edition grade class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Example input value: 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Example output value: 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Footer Placeholder 3"/>
          <p:cNvSpPr/>
          <p:nvPr/>
        </p:nvSpPr>
        <p:spPr>
          <a:xfrm>
            <a:off x="8637840" y="6555240"/>
            <a:ext cx="1255320" cy="1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Insert "Title, Author, Dat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Slide Number Placeholder 4"/>
          <p:cNvSpPr/>
          <p:nvPr/>
        </p:nvSpPr>
        <p:spPr>
          <a:xfrm>
            <a:off x="9505440" y="6733080"/>
            <a:ext cx="536040" cy="1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D80B9-7157-478A-A0D3-A562A3390329}" type="slidenum"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Date Placeholder 5"/>
          <p:cNvSpPr/>
          <p:nvPr/>
        </p:nvSpPr>
        <p:spPr>
          <a:xfrm>
            <a:off x="6788160" y="6692760"/>
            <a:ext cx="287964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© 2010 Capgemini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1187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252000" bIns="36000" anchor="ctr">
            <a:noAutofit/>
          </a:bodyPr>
          <a:p>
            <a:pPr marL="7142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000" spc="-1" strike="noStrike">
                <a:solidFill>
                  <a:srgbClr val="009bcc"/>
                </a:solidFill>
                <a:latin typeface="Arial Narrow"/>
              </a:rPr>
              <a:t>Nominal Connection</a:t>
            </a:r>
            <a:endParaRPr b="1" lang="en-US" sz="3000" spc="-1" strike="noStrike">
              <a:solidFill>
                <a:srgbClr val="009bcc"/>
              </a:solidFill>
              <a:latin typeface="Arial Narrow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-360" y="1439640"/>
            <a:ext cx="9906120" cy="4679640"/>
          </a:xfrm>
          <a:prstGeom prst="rect">
            <a:avLst/>
          </a:prstGeom>
          <a:noFill/>
          <a:ln w="0">
            <a:noFill/>
          </a:ln>
        </p:spPr>
        <p:txBody>
          <a:bodyPr lIns="288000" rIns="72000" tIns="36000" bIns="360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Name: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Type: str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minOccurs: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maxOccurs: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Description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'code string class' that is a standardrised set of strings used in a 'daily drilling report' to identify a member of 'daily drilling report connection class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Example input value: 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Example output value: 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Footer Placeholder 3"/>
          <p:cNvSpPr/>
          <p:nvPr/>
        </p:nvSpPr>
        <p:spPr>
          <a:xfrm>
            <a:off x="8637840" y="6555240"/>
            <a:ext cx="1255320" cy="1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Insert "Title, Author, Dat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Slide Number Placeholder 4"/>
          <p:cNvSpPr/>
          <p:nvPr/>
        </p:nvSpPr>
        <p:spPr>
          <a:xfrm>
            <a:off x="9505440" y="6733080"/>
            <a:ext cx="536040" cy="1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52B21-A184-4E74-8F12-FF1276454119}" type="slidenum"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Date Placeholder 5"/>
          <p:cNvSpPr/>
          <p:nvPr/>
        </p:nvSpPr>
        <p:spPr>
          <a:xfrm>
            <a:off x="6788160" y="6692760"/>
            <a:ext cx="287964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© 2010 Capgemini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1187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252000" bIns="36000" anchor="ctr">
            <a:noAutofit/>
          </a:bodyPr>
          <a:p>
            <a:pPr marL="7142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000" spc="-1" strike="noStrike">
                <a:solidFill>
                  <a:srgbClr val="009bcc"/>
                </a:solidFill>
                <a:latin typeface="Arial Narrow"/>
              </a:rPr>
              <a:t>Length</a:t>
            </a:r>
            <a:endParaRPr b="1" lang="en-US" sz="3000" spc="-1" strike="noStrike">
              <a:solidFill>
                <a:srgbClr val="009bcc"/>
              </a:solidFill>
              <a:latin typeface="Arial Narrow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-360" y="1439640"/>
            <a:ext cx="9906120" cy="4679640"/>
          </a:xfrm>
          <a:prstGeom prst="rect">
            <a:avLst/>
          </a:prstGeom>
          <a:noFill/>
          <a:ln w="0">
            <a:noFill/>
          </a:ln>
        </p:spPr>
        <p:txBody>
          <a:bodyPr lIns="288000" rIns="72000" tIns="36000" bIns="360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Name: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Type: lengthMeasureMet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minOccurs: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maxOccurs: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Description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ngth measured along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Example input value: 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Example output value: 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Footer Placeholder 3"/>
          <p:cNvSpPr/>
          <p:nvPr/>
        </p:nvSpPr>
        <p:spPr>
          <a:xfrm>
            <a:off x="8637840" y="6555240"/>
            <a:ext cx="1255320" cy="1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Insert "Title, Author, Dat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Slide Number Placeholder 4"/>
          <p:cNvSpPr/>
          <p:nvPr/>
        </p:nvSpPr>
        <p:spPr>
          <a:xfrm>
            <a:off x="9505440" y="6733080"/>
            <a:ext cx="536040" cy="1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41E8B-BC53-4F64-95F6-F1441C0923E0}" type="slidenum"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Date Placeholder 5"/>
          <p:cNvSpPr/>
          <p:nvPr/>
        </p:nvSpPr>
        <p:spPr>
          <a:xfrm>
            <a:off x="6788160" y="6692760"/>
            <a:ext cx="287964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© 2010 Capgemini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1187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252000" bIns="36000" anchor="ctr">
            <a:noAutofit/>
          </a:bodyPr>
          <a:p>
            <a:pPr marL="7142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000" spc="-1" strike="noStrike">
                <a:solidFill>
                  <a:srgbClr val="009bcc"/>
                </a:solidFill>
                <a:latin typeface="Arial Narrow"/>
              </a:rPr>
              <a:t>Top/Hangar</a:t>
            </a:r>
            <a:endParaRPr b="1" lang="en-US" sz="3000" spc="-1" strike="noStrike">
              <a:solidFill>
                <a:srgbClr val="009bcc"/>
              </a:solidFill>
              <a:latin typeface="Arial Narrow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-360" y="1439640"/>
            <a:ext cx="9906120" cy="4679640"/>
          </a:xfrm>
          <a:prstGeom prst="rect">
            <a:avLst/>
          </a:prstGeom>
          <a:noFill/>
          <a:ln w="0">
            <a:noFill/>
          </a:ln>
        </p:spPr>
        <p:txBody>
          <a:bodyPr lIns="288000" rIns="72000" tIns="36000" bIns="360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Name: mdT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Type: measuredDepthCo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minOccurs: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maxOccurs: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Description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easured depth of the top of the tubul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Example input value: 1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Example output value: 1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Footer Placeholder 3"/>
          <p:cNvSpPr/>
          <p:nvPr/>
        </p:nvSpPr>
        <p:spPr>
          <a:xfrm>
            <a:off x="8637840" y="6555240"/>
            <a:ext cx="1255320" cy="1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Insert "Title, Author, Dat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Slide Number Placeholder 4"/>
          <p:cNvSpPr/>
          <p:nvPr/>
        </p:nvSpPr>
        <p:spPr>
          <a:xfrm>
            <a:off x="9505440" y="6733080"/>
            <a:ext cx="536040" cy="1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EAEE7-E811-4BD3-B022-ECAD24CB7244}" type="slidenum"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Date Placeholder 5"/>
          <p:cNvSpPr/>
          <p:nvPr/>
        </p:nvSpPr>
        <p:spPr>
          <a:xfrm>
            <a:off x="6788160" y="6692760"/>
            <a:ext cx="287964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© 2010 Capgemini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1187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252000" bIns="36000" anchor="ctr">
            <a:noAutofit/>
          </a:bodyPr>
          <a:p>
            <a:pPr marL="7142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000" spc="-1" strike="noStrike">
                <a:solidFill>
                  <a:srgbClr val="009bcc"/>
                </a:solidFill>
                <a:latin typeface="Arial Narrow"/>
              </a:rPr>
              <a:t>Bottom/Shoe</a:t>
            </a:r>
            <a:endParaRPr b="1" lang="en-US" sz="3000" spc="-1" strike="noStrike">
              <a:solidFill>
                <a:srgbClr val="009bcc"/>
              </a:solidFill>
              <a:latin typeface="Arial Narrow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-360" y="1439640"/>
            <a:ext cx="9906120" cy="4679640"/>
          </a:xfrm>
          <a:prstGeom prst="rect">
            <a:avLst/>
          </a:prstGeom>
          <a:noFill/>
          <a:ln w="0">
            <a:noFill/>
          </a:ln>
        </p:spPr>
        <p:txBody>
          <a:bodyPr lIns="288000" rIns="72000" tIns="36000" bIns="360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Name: mdBott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Type: measuredDepthCo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minOccurs: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maxOccurs: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Description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easured depth of the bottom of the tubul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Example input value: 1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Example output value: 1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Footer Placeholder 3"/>
          <p:cNvSpPr/>
          <p:nvPr/>
        </p:nvSpPr>
        <p:spPr>
          <a:xfrm>
            <a:off x="8637840" y="6555240"/>
            <a:ext cx="1255320" cy="1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Insert "Title, Author, Dat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Slide Number Placeholder 4"/>
          <p:cNvSpPr/>
          <p:nvPr/>
        </p:nvSpPr>
        <p:spPr>
          <a:xfrm>
            <a:off x="9505440" y="6733080"/>
            <a:ext cx="536040" cy="1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B9436-5D59-4677-B4E1-D407A8A8F6C0}" type="slidenum"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Date Placeholder 5"/>
          <p:cNvSpPr/>
          <p:nvPr/>
        </p:nvSpPr>
        <p:spPr>
          <a:xfrm>
            <a:off x="6788160" y="6692760"/>
            <a:ext cx="287964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© 2010 Capgemini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1187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252000" bIns="36000" anchor="ctr">
            <a:noAutofit/>
          </a:bodyPr>
          <a:p>
            <a:pPr marL="7142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000" spc="-1" strike="noStrike">
                <a:solidFill>
                  <a:srgbClr val="009bcc"/>
                </a:solidFill>
                <a:latin typeface="Arial Narrow"/>
              </a:rPr>
              <a:t>Casing type</a:t>
            </a:r>
            <a:endParaRPr b="1" lang="en-US" sz="3000" spc="-1" strike="noStrike">
              <a:solidFill>
                <a:srgbClr val="009bcc"/>
              </a:solidFill>
              <a:latin typeface="Arial Narrow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-360" y="1439640"/>
            <a:ext cx="9906120" cy="4679640"/>
          </a:xfrm>
          <a:prstGeom prst="rect">
            <a:avLst/>
          </a:prstGeom>
          <a:noFill/>
          <a:ln w="0">
            <a:noFill/>
          </a:ln>
        </p:spPr>
        <p:txBody>
          <a:bodyPr lIns="288000" rIns="72000" tIns="36000" bIns="360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Name: casing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Type: casing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minOccurs: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maxOccurs: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Description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asing type used in this tubular job st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Example input value: 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Example output value: 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Footer Placeholder 3"/>
          <p:cNvSpPr/>
          <p:nvPr/>
        </p:nvSpPr>
        <p:spPr>
          <a:xfrm>
            <a:off x="8637840" y="6555240"/>
            <a:ext cx="1255320" cy="1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Insert "Title, Author, Dat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Slide Number Placeholder 4"/>
          <p:cNvSpPr/>
          <p:nvPr/>
        </p:nvSpPr>
        <p:spPr>
          <a:xfrm>
            <a:off x="9505440" y="6733080"/>
            <a:ext cx="536040" cy="1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615C8-C3F8-4C97-8056-56FFCF1908FE}" type="slidenum"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Date Placeholder 5"/>
          <p:cNvSpPr/>
          <p:nvPr/>
        </p:nvSpPr>
        <p:spPr>
          <a:xfrm>
            <a:off x="6788160" y="6692760"/>
            <a:ext cx="287964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© 2010 Capgemini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1187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252000" bIns="36000" anchor="ctr">
            <a:noAutofit/>
          </a:bodyPr>
          <a:p>
            <a:pPr marL="7142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000" spc="-1" strike="noStrike">
                <a:solidFill>
                  <a:srgbClr val="009bcc"/>
                </a:solidFill>
                <a:latin typeface="Arial Narrow"/>
              </a:rPr>
              <a:t>Run Time</a:t>
            </a:r>
            <a:endParaRPr b="1" lang="en-US" sz="3000" spc="-1" strike="noStrike">
              <a:solidFill>
                <a:srgbClr val="009bcc"/>
              </a:solidFill>
              <a:latin typeface="Arial Narrow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-360" y="1439640"/>
            <a:ext cx="9906120" cy="4679640"/>
          </a:xfrm>
          <a:prstGeom prst="rect">
            <a:avLst/>
          </a:prstGeom>
          <a:noFill/>
          <a:ln w="0">
            <a:noFill/>
          </a:ln>
        </p:spPr>
        <p:txBody>
          <a:bodyPr lIns="288000" rIns="72000" tIns="36000" bIns="360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Name: dTim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Type: timesta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minOccurs: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maxOccurs: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Description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time of start of this stimulation st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Example input value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11-02-07T12:00:00.000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Example output value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: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Footer Placeholder 3"/>
          <p:cNvSpPr/>
          <p:nvPr/>
        </p:nvSpPr>
        <p:spPr>
          <a:xfrm>
            <a:off x="8637840" y="6555240"/>
            <a:ext cx="1255320" cy="1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Insert "Title, Author, Dat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Slide Number Placeholder 4"/>
          <p:cNvSpPr/>
          <p:nvPr/>
        </p:nvSpPr>
        <p:spPr>
          <a:xfrm>
            <a:off x="9505440" y="6733080"/>
            <a:ext cx="536040" cy="1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2A367-5EC5-42D0-AEA3-EA64FB631E74}" type="slidenum"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Date Placeholder 5"/>
          <p:cNvSpPr/>
          <p:nvPr/>
        </p:nvSpPr>
        <p:spPr>
          <a:xfrm>
            <a:off x="6788160" y="6692760"/>
            <a:ext cx="287964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© 2010 Capgemini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1187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252000" bIns="36000" anchor="ctr">
            <a:noAutofit/>
          </a:bodyPr>
          <a:p>
            <a:pPr marL="7142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000" spc="-1" strike="noStrike">
                <a:solidFill>
                  <a:srgbClr val="009bcc"/>
                </a:solidFill>
                <a:latin typeface="Arial Narrow"/>
              </a:rPr>
              <a:t>Tight well</a:t>
            </a:r>
            <a:endParaRPr b="1" lang="en-US" sz="3000" spc="-1" strike="noStrike">
              <a:solidFill>
                <a:srgbClr val="009bcc"/>
              </a:solidFill>
              <a:latin typeface="Arial Narrow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-360" y="1439640"/>
            <a:ext cx="9906120" cy="4679640"/>
          </a:xfrm>
          <a:prstGeom prst="rect">
            <a:avLst/>
          </a:prstGeom>
          <a:noFill/>
          <a:ln w="0">
            <a:noFill/>
          </a:ln>
        </p:spPr>
        <p:txBody>
          <a:bodyPr lIns="288000" rIns="72000" tIns="36000" bIns="360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Name: tightW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Type: logicalBoo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minOccurs: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maxOccurs: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Description: Indicates if a well is tight or no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Example input value: tr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Example output value: 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Footer Placeholder 3"/>
          <p:cNvSpPr/>
          <p:nvPr/>
        </p:nvSpPr>
        <p:spPr>
          <a:xfrm>
            <a:off x="8637840" y="6555240"/>
            <a:ext cx="1255320" cy="1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Insert "Title, Author, Dat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Slide Number Placeholder 4"/>
          <p:cNvSpPr/>
          <p:nvPr/>
        </p:nvSpPr>
        <p:spPr>
          <a:xfrm>
            <a:off x="9505440" y="6733080"/>
            <a:ext cx="536040" cy="1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A07E5-D4A3-4C93-8D33-931282E9ECBC}" type="slidenum"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Date Placeholder 5"/>
          <p:cNvSpPr/>
          <p:nvPr/>
        </p:nvSpPr>
        <p:spPr>
          <a:xfrm>
            <a:off x="6788160" y="6692760"/>
            <a:ext cx="287964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© 2010 Capgemini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1187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252000" bIns="36000" anchor="ctr">
            <a:noAutofit/>
          </a:bodyPr>
          <a:p>
            <a:pPr marL="7142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000" spc="-1" strike="noStrike">
                <a:solidFill>
                  <a:srgbClr val="009bcc"/>
                </a:solidFill>
                <a:latin typeface="Arial Narrow"/>
              </a:rPr>
              <a:t>End Time</a:t>
            </a:r>
            <a:endParaRPr b="1" lang="en-US" sz="3000" spc="-1" strike="noStrike">
              <a:solidFill>
                <a:srgbClr val="009bcc"/>
              </a:solidFill>
              <a:latin typeface="Arial Narrow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-360" y="1439640"/>
            <a:ext cx="9906120" cy="4679640"/>
          </a:xfrm>
          <a:prstGeom prst="rect">
            <a:avLst/>
          </a:prstGeom>
          <a:noFill/>
          <a:ln w="0">
            <a:noFill/>
          </a:ln>
        </p:spPr>
        <p:txBody>
          <a:bodyPr lIns="288000" rIns="72000" tIns="36000" bIns="360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Name: dTim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Type: timesta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minOccurs: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maxOccurs: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Description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accumulated Rate of penetration for the entire ru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Example input value: 2011-02-07T12:00:00.000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Example output value: 12: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Footer Placeholder 3"/>
          <p:cNvSpPr/>
          <p:nvPr/>
        </p:nvSpPr>
        <p:spPr>
          <a:xfrm>
            <a:off x="8637840" y="6555240"/>
            <a:ext cx="1255320" cy="1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Insert "Title, Author, Dat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Slide Number Placeholder 4"/>
          <p:cNvSpPr/>
          <p:nvPr/>
        </p:nvSpPr>
        <p:spPr>
          <a:xfrm>
            <a:off x="9505440" y="6733080"/>
            <a:ext cx="536040" cy="1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BC631-1219-4828-99B9-ADC121533B08}" type="slidenum"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Date Placeholder 5"/>
          <p:cNvSpPr/>
          <p:nvPr/>
        </p:nvSpPr>
        <p:spPr>
          <a:xfrm>
            <a:off x="6788160" y="6692760"/>
            <a:ext cx="287964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© 2010 Capgemini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1187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252000" bIns="36000" anchor="ctr">
            <a:noAutofit/>
          </a:bodyPr>
          <a:p>
            <a:pPr marL="7142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000" spc="-1" strike="noStrike">
                <a:solidFill>
                  <a:srgbClr val="009bcc"/>
                </a:solidFill>
                <a:latin typeface="Arial Narrow"/>
              </a:rPr>
              <a:t>Description</a:t>
            </a:r>
            <a:endParaRPr b="1" lang="en-US" sz="3000" spc="-1" strike="noStrike">
              <a:solidFill>
                <a:srgbClr val="009bcc"/>
              </a:solidFill>
              <a:latin typeface="Arial Narrow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-360" y="1439640"/>
            <a:ext cx="9906120" cy="4679640"/>
          </a:xfrm>
          <a:prstGeom prst="rect">
            <a:avLst/>
          </a:prstGeom>
          <a:noFill/>
          <a:ln w="0">
            <a:noFill/>
          </a:ln>
        </p:spPr>
        <p:txBody>
          <a:bodyPr lIns="288000" rIns="72000" tIns="36000" bIns="360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Name: descri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Type: descriptionSt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minOccurs: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maxOccurs: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Description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accumulated Rate of penetration for the entire ru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Example input value: Lorem ipsum dolor sit amet, consectetur adipiscing elit. Praesent porttitor condimentum mi nec dictum. Quisque sodales lacinia lobortis. Donec interdum. Example output value: Lorem ipsum dolor sit amet, consectetur adipiscing elit. Praesent porttitor condimentum mi nec dictum. Quisque sodales lacinia lobortis. Donec interdu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Footer Placeholder 3"/>
          <p:cNvSpPr/>
          <p:nvPr/>
        </p:nvSpPr>
        <p:spPr>
          <a:xfrm>
            <a:off x="8637840" y="6555240"/>
            <a:ext cx="1255320" cy="1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Insert "Title, Author, Dat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Slide Number Placeholder 4"/>
          <p:cNvSpPr/>
          <p:nvPr/>
        </p:nvSpPr>
        <p:spPr>
          <a:xfrm>
            <a:off x="9505440" y="6733080"/>
            <a:ext cx="536040" cy="1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02C1B-1FE4-4F95-86AB-BB5795C93CF9}" type="slidenum"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Date Placeholder 5"/>
          <p:cNvSpPr/>
          <p:nvPr/>
        </p:nvSpPr>
        <p:spPr>
          <a:xfrm>
            <a:off x="6788160" y="6692760"/>
            <a:ext cx="287964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© 2010 Capgemini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1187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252000" bIns="36000" anchor="ctr">
            <a:noAutofit/>
          </a:bodyPr>
          <a:p>
            <a:pPr marL="7142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9bcc"/>
                </a:solidFill>
                <a:latin typeface="Arial Narrow"/>
              </a:rPr>
              <a:t>Cement information</a:t>
            </a:r>
            <a:endParaRPr b="1" lang="en-US" sz="3000" spc="-1" strike="noStrike">
              <a:solidFill>
                <a:srgbClr val="009bcc"/>
              </a:solidFill>
              <a:latin typeface="Arial Narrow"/>
            </a:endParaRPr>
          </a:p>
        </p:txBody>
      </p:sp>
      <p:pic>
        <p:nvPicPr>
          <p:cNvPr id="623" name="Content Placeholder 6" descr="cementinfo.png"/>
          <p:cNvPicPr/>
          <p:nvPr/>
        </p:nvPicPr>
        <p:blipFill>
          <a:blip r:embed="rId1"/>
          <a:stretch/>
        </p:blipFill>
        <p:spPr>
          <a:xfrm>
            <a:off x="806400" y="2394000"/>
            <a:ext cx="8293320" cy="2771640"/>
          </a:xfrm>
          <a:prstGeom prst="rect">
            <a:avLst/>
          </a:prstGeom>
          <a:ln w="0">
            <a:noFill/>
          </a:ln>
        </p:spPr>
      </p:pic>
      <p:sp>
        <p:nvSpPr>
          <p:cNvPr id="624" name="Footer Placeholder 3"/>
          <p:cNvSpPr/>
          <p:nvPr/>
        </p:nvSpPr>
        <p:spPr>
          <a:xfrm>
            <a:off x="7059240" y="6555240"/>
            <a:ext cx="2787120" cy="1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Daily Drilling Report 1.2.0 Elements, Yao Bo Lu, 11/05.20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Slide Number Placeholder 4"/>
          <p:cNvSpPr/>
          <p:nvPr/>
        </p:nvSpPr>
        <p:spPr>
          <a:xfrm>
            <a:off x="9505440" y="6733080"/>
            <a:ext cx="536040" cy="1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9EE65-4FBE-4A34-AFBC-65A29C5683AE}" type="slidenum"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Date Placeholder 5"/>
          <p:cNvSpPr/>
          <p:nvPr/>
        </p:nvSpPr>
        <p:spPr>
          <a:xfrm>
            <a:off x="6788160" y="6692760"/>
            <a:ext cx="287964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© 2010 Capgemini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1187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252000" bIns="36000" anchor="ctr">
            <a:noAutofit/>
          </a:bodyPr>
          <a:p>
            <a:pPr marL="7142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000" spc="-1" strike="noStrike">
                <a:solidFill>
                  <a:srgbClr val="009bcc"/>
                </a:solidFill>
                <a:latin typeface="Arial Narrow"/>
              </a:rPr>
              <a:t>Start Time</a:t>
            </a:r>
            <a:endParaRPr b="1" lang="en-US" sz="3000" spc="-1" strike="noStrike">
              <a:solidFill>
                <a:srgbClr val="009bcc"/>
              </a:solidFill>
              <a:latin typeface="Arial Narrow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-360" y="1439640"/>
            <a:ext cx="9906120" cy="4679640"/>
          </a:xfrm>
          <a:prstGeom prst="rect">
            <a:avLst/>
          </a:prstGeom>
          <a:noFill/>
          <a:ln w="0">
            <a:noFill/>
          </a:ln>
        </p:spPr>
        <p:txBody>
          <a:bodyPr lIns="288000" rIns="72000" tIns="36000" bIns="360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Name: dTimPump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Type: timesta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minOccurs: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maxOccurs: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Description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time at start of pumping ce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Example input value: 2011-02-07T12:00:00.000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Example output value: 12: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Footer Placeholder 3"/>
          <p:cNvSpPr/>
          <p:nvPr/>
        </p:nvSpPr>
        <p:spPr>
          <a:xfrm>
            <a:off x="8637840" y="6555240"/>
            <a:ext cx="1255320" cy="1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Insert "Title, Author, Dat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Slide Number Placeholder 4"/>
          <p:cNvSpPr/>
          <p:nvPr/>
        </p:nvSpPr>
        <p:spPr>
          <a:xfrm>
            <a:off x="9505440" y="6733080"/>
            <a:ext cx="536040" cy="1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EEE1A-C164-4E5A-A427-05313A3EF878}" type="slidenum"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Date Placeholder 5"/>
          <p:cNvSpPr/>
          <p:nvPr/>
        </p:nvSpPr>
        <p:spPr>
          <a:xfrm>
            <a:off x="6788160" y="6692760"/>
            <a:ext cx="287964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© 2010 Capgemini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1187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252000" bIns="36000" anchor="ctr">
            <a:noAutofit/>
          </a:bodyPr>
          <a:p>
            <a:pPr marL="7142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000" spc="-1" strike="noStrike">
                <a:solidFill>
                  <a:srgbClr val="009bcc"/>
                </a:solidFill>
                <a:latin typeface="Arial Narrow"/>
              </a:rPr>
              <a:t>End Time</a:t>
            </a:r>
            <a:endParaRPr b="1" lang="en-US" sz="3000" spc="-1" strike="noStrike">
              <a:solidFill>
                <a:srgbClr val="009bcc"/>
              </a:solidFill>
              <a:latin typeface="Arial Narrow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-360" y="1439640"/>
            <a:ext cx="9906120" cy="4679640"/>
          </a:xfrm>
          <a:prstGeom prst="rect">
            <a:avLst/>
          </a:prstGeom>
          <a:noFill/>
          <a:ln w="0">
            <a:noFill/>
          </a:ln>
        </p:spPr>
        <p:txBody>
          <a:bodyPr lIns="288000" rIns="72000" tIns="36000" bIns="360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Name: dTimPum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Type: timesta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minOccurs: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maxOccurs: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Description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time at end of pumping ce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Example input value: 2011-02-07T12:00:00.000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Example output value: 12: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Footer Placeholder 3"/>
          <p:cNvSpPr/>
          <p:nvPr/>
        </p:nvSpPr>
        <p:spPr>
          <a:xfrm>
            <a:off x="8637840" y="6555240"/>
            <a:ext cx="1255320" cy="1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Insert "Title, Author, Dat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Slide Number Placeholder 4"/>
          <p:cNvSpPr/>
          <p:nvPr/>
        </p:nvSpPr>
        <p:spPr>
          <a:xfrm>
            <a:off x="9505440" y="6733080"/>
            <a:ext cx="536040" cy="1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E9E27-1C68-4514-A500-5A8CE4B3AE27}" type="slidenum"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Date Placeholder 5"/>
          <p:cNvSpPr/>
          <p:nvPr/>
        </p:nvSpPr>
        <p:spPr>
          <a:xfrm>
            <a:off x="6788160" y="6692760"/>
            <a:ext cx="287964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© 2010 Capgemini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1187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252000" bIns="36000" anchor="ctr">
            <a:noAutofit/>
          </a:bodyPr>
          <a:p>
            <a:pPr marL="7142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000" spc="-1" strike="noStrike">
                <a:solidFill>
                  <a:srgbClr val="009bcc"/>
                </a:solidFill>
                <a:latin typeface="Arial Narrow"/>
              </a:rPr>
              <a:t>Job type</a:t>
            </a:r>
            <a:endParaRPr b="1" lang="en-US" sz="3000" spc="-1" strike="noStrike">
              <a:solidFill>
                <a:srgbClr val="009bcc"/>
              </a:solidFill>
              <a:latin typeface="Arial Narrow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-360" y="1439640"/>
            <a:ext cx="9906120" cy="4679640"/>
          </a:xfrm>
          <a:prstGeom prst="rect">
            <a:avLst/>
          </a:prstGeom>
          <a:noFill/>
          <a:ln w="0">
            <a:noFill/>
          </a:ln>
        </p:spPr>
        <p:txBody>
          <a:bodyPr lIns="288000" rIns="72000" tIns="36000" bIns="360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Name: job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Type: cementJob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minOccurs: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maxOccurs: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Description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 of cement jo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Example input value: squee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Example output value: squee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Footer Placeholder 3"/>
          <p:cNvSpPr/>
          <p:nvPr/>
        </p:nvSpPr>
        <p:spPr>
          <a:xfrm>
            <a:off x="8637840" y="6555240"/>
            <a:ext cx="1255320" cy="1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Insert "Title, Author, Dat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Slide Number Placeholder 4"/>
          <p:cNvSpPr/>
          <p:nvPr/>
        </p:nvSpPr>
        <p:spPr>
          <a:xfrm>
            <a:off x="9505440" y="6733080"/>
            <a:ext cx="536040" cy="1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D690F-B8A8-4F74-B9DA-B034AF5E8656}" type="slidenum"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Date Placeholder 5"/>
          <p:cNvSpPr/>
          <p:nvPr/>
        </p:nvSpPr>
        <p:spPr>
          <a:xfrm>
            <a:off x="6788160" y="6692760"/>
            <a:ext cx="287964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© 2010 Capgemini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1187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252000" bIns="36000" anchor="ctr">
            <a:noAutofit/>
          </a:bodyPr>
          <a:p>
            <a:pPr marL="7142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000" spc="-1" strike="noStrike">
                <a:solidFill>
                  <a:srgbClr val="009bcc"/>
                </a:solidFill>
                <a:latin typeface="Arial Narrow"/>
              </a:rPr>
              <a:t>Casing string diameter</a:t>
            </a:r>
            <a:endParaRPr b="1" lang="en-US" sz="3000" spc="-1" strike="noStrike">
              <a:solidFill>
                <a:srgbClr val="009bcc"/>
              </a:solidFill>
              <a:latin typeface="Arial Narrow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-360" y="1439640"/>
            <a:ext cx="9906120" cy="4679640"/>
          </a:xfrm>
          <a:prstGeom prst="rect">
            <a:avLst/>
          </a:prstGeom>
          <a:noFill/>
          <a:ln w="0">
            <a:noFill/>
          </a:ln>
        </p:spPr>
        <p:txBody>
          <a:bodyPr lIns="288000" rIns="72000" tIns="36000" bIns="360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Name: casingStr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Type: lengthMeasureIn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minOccurs: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maxOccurs: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Description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ing string diameter of the casing cement (i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Example input value: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Example output value: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Footer Placeholder 3"/>
          <p:cNvSpPr/>
          <p:nvPr/>
        </p:nvSpPr>
        <p:spPr>
          <a:xfrm>
            <a:off x="8637840" y="6555240"/>
            <a:ext cx="1255320" cy="1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Insert "Title, Author, Dat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Slide Number Placeholder 4"/>
          <p:cNvSpPr/>
          <p:nvPr/>
        </p:nvSpPr>
        <p:spPr>
          <a:xfrm>
            <a:off x="9505440" y="6733080"/>
            <a:ext cx="536040" cy="1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8567F-ACD8-4009-8A9B-17AAFD4BDC59}" type="slidenum"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Date Placeholder 5"/>
          <p:cNvSpPr/>
          <p:nvPr/>
        </p:nvSpPr>
        <p:spPr>
          <a:xfrm>
            <a:off x="6788160" y="6692760"/>
            <a:ext cx="287964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© 2010 Capgemini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1187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252000" bIns="36000" anchor="ctr">
            <a:noAutofit/>
          </a:bodyPr>
          <a:p>
            <a:pPr marL="7142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000" spc="-1" strike="noStrike">
                <a:solidFill>
                  <a:srgbClr val="009bcc"/>
                </a:solidFill>
                <a:latin typeface="Arial Narrow"/>
              </a:rPr>
              <a:t>Top plug used</a:t>
            </a:r>
            <a:endParaRPr b="1" lang="en-US" sz="3000" spc="-1" strike="noStrike">
              <a:solidFill>
                <a:srgbClr val="009bcc"/>
              </a:solidFill>
              <a:latin typeface="Arial Narrow"/>
            </a:endParaRPr>
          </a:p>
        </p:txBody>
      </p:sp>
      <p:sp>
        <p:nvSpPr>
          <p:cNvPr id="648" name=""/>
          <p:cNvSpPr txBox="1"/>
          <p:nvPr/>
        </p:nvSpPr>
        <p:spPr>
          <a:xfrm>
            <a:off x="-360" y="1439640"/>
            <a:ext cx="9906120" cy="4679640"/>
          </a:xfrm>
          <a:prstGeom prst="rect">
            <a:avLst/>
          </a:prstGeom>
          <a:noFill/>
          <a:ln w="0">
            <a:noFill/>
          </a:ln>
        </p:spPr>
        <p:txBody>
          <a:bodyPr lIns="288000" rIns="72000" tIns="36000" bIns="360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Name: topPlu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Type: logicalBoo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minOccurs: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maxOccurs: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Description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 plug used? Values are "true" (or "1") and "false" (or "0"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Example input value: tr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Example output value: 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Footer Placeholder 3"/>
          <p:cNvSpPr/>
          <p:nvPr/>
        </p:nvSpPr>
        <p:spPr>
          <a:xfrm>
            <a:off x="8637840" y="6555240"/>
            <a:ext cx="1255320" cy="1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Insert "Title, Author, Dat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Slide Number Placeholder 4"/>
          <p:cNvSpPr/>
          <p:nvPr/>
        </p:nvSpPr>
        <p:spPr>
          <a:xfrm>
            <a:off x="9505440" y="6733080"/>
            <a:ext cx="536040" cy="1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64CEF-D26A-49F4-9BD0-ED0FD5DB63FB}" type="slidenum"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Date Placeholder 5"/>
          <p:cNvSpPr/>
          <p:nvPr/>
        </p:nvSpPr>
        <p:spPr>
          <a:xfrm>
            <a:off x="6788160" y="6692760"/>
            <a:ext cx="287964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© 2010 Capgemini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1187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252000" bIns="36000" anchor="ctr">
            <a:noAutofit/>
          </a:bodyPr>
          <a:p>
            <a:pPr marL="7142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000" spc="-1" strike="noStrike">
                <a:solidFill>
                  <a:srgbClr val="009bcc"/>
                </a:solidFill>
                <a:latin typeface="Arial Narrow"/>
              </a:rPr>
              <a:t>Bottom plug used</a:t>
            </a:r>
            <a:endParaRPr b="1" lang="en-US" sz="3000" spc="-1" strike="noStrike">
              <a:solidFill>
                <a:srgbClr val="009bcc"/>
              </a:solidFill>
              <a:latin typeface="Arial Narrow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-360" y="1439640"/>
            <a:ext cx="9906120" cy="4679640"/>
          </a:xfrm>
          <a:prstGeom prst="rect">
            <a:avLst/>
          </a:prstGeom>
          <a:noFill/>
          <a:ln w="0">
            <a:noFill/>
          </a:ln>
        </p:spPr>
        <p:txBody>
          <a:bodyPr lIns="288000" rIns="72000" tIns="36000" bIns="360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Name: botPlu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Type: logicalBoo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minOccurs: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maxOccurs: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Description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tom plug used. Values are "true" (or "1") and "false" (or "0"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Example input value: tr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Example output value: 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Footer Placeholder 3"/>
          <p:cNvSpPr/>
          <p:nvPr/>
        </p:nvSpPr>
        <p:spPr>
          <a:xfrm>
            <a:off x="8637840" y="6555240"/>
            <a:ext cx="1255320" cy="1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Insert "Title, Author, Dat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Slide Number Placeholder 4"/>
          <p:cNvSpPr/>
          <p:nvPr/>
        </p:nvSpPr>
        <p:spPr>
          <a:xfrm>
            <a:off x="9505440" y="6733080"/>
            <a:ext cx="536040" cy="1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887F7-CF02-4740-A7CA-0D57A22612AB}" type="slidenum"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Date Placeholder 5"/>
          <p:cNvSpPr/>
          <p:nvPr/>
        </p:nvSpPr>
        <p:spPr>
          <a:xfrm>
            <a:off x="6788160" y="6692760"/>
            <a:ext cx="287964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© 2010 Capgemini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1187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252000" bIns="36000" anchor="ctr">
            <a:noAutofit/>
          </a:bodyPr>
          <a:p>
            <a:pPr marL="7142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000" spc="-1" strike="noStrike">
                <a:solidFill>
                  <a:srgbClr val="009bcc"/>
                </a:solidFill>
                <a:latin typeface="Arial Narrow"/>
              </a:rPr>
              <a:t>Plug bumped</a:t>
            </a:r>
            <a:endParaRPr b="1" lang="en-US" sz="3000" spc="-1" strike="noStrike">
              <a:solidFill>
                <a:srgbClr val="009bcc"/>
              </a:solidFill>
              <a:latin typeface="Arial Narrow"/>
            </a:endParaRPr>
          </a:p>
        </p:txBody>
      </p:sp>
      <p:sp>
        <p:nvSpPr>
          <p:cNvPr id="658" name=""/>
          <p:cNvSpPr txBox="1"/>
          <p:nvPr/>
        </p:nvSpPr>
        <p:spPr>
          <a:xfrm>
            <a:off x="-360" y="1439640"/>
            <a:ext cx="9906120" cy="4679640"/>
          </a:xfrm>
          <a:prstGeom prst="rect">
            <a:avLst/>
          </a:prstGeom>
          <a:noFill/>
          <a:ln w="0">
            <a:noFill/>
          </a:ln>
        </p:spPr>
        <p:txBody>
          <a:bodyPr lIns="288000" rIns="72000" tIns="36000" bIns="360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Name: plugBump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Type: logicalBoo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minOccurs: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maxOccurs: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Description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bumped? Values are "true" (or "1") and "false" (or "0"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Example input value: tr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Example output value: 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Footer Placeholder 3"/>
          <p:cNvSpPr/>
          <p:nvPr/>
        </p:nvSpPr>
        <p:spPr>
          <a:xfrm>
            <a:off x="8637840" y="6555240"/>
            <a:ext cx="1255320" cy="1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Insert "Title, Author, Dat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Slide Number Placeholder 4"/>
          <p:cNvSpPr/>
          <p:nvPr/>
        </p:nvSpPr>
        <p:spPr>
          <a:xfrm>
            <a:off x="9505440" y="6733080"/>
            <a:ext cx="536040" cy="1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78BD1-231F-4261-8F24-DC613C7E95CC}" type="slidenum"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Date Placeholder 5"/>
          <p:cNvSpPr/>
          <p:nvPr/>
        </p:nvSpPr>
        <p:spPr>
          <a:xfrm>
            <a:off x="6788160" y="6692760"/>
            <a:ext cx="287964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© 2010 Capgemini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1187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252000" bIns="36000" anchor="ctr">
            <a:noAutofit/>
          </a:bodyPr>
          <a:p>
            <a:pPr marL="7142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000" spc="-1" strike="noStrike">
                <a:solidFill>
                  <a:srgbClr val="009bcc"/>
                </a:solidFill>
                <a:latin typeface="Arial Narrow"/>
              </a:rPr>
              <a:t>High pressure – high temperature</a:t>
            </a:r>
            <a:endParaRPr b="1" lang="en-US" sz="3000" spc="-1" strike="noStrike">
              <a:solidFill>
                <a:srgbClr val="009bcc"/>
              </a:solidFill>
              <a:latin typeface="Arial Narrow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-360" y="1439640"/>
            <a:ext cx="9906120" cy="4679640"/>
          </a:xfrm>
          <a:prstGeom prst="rect">
            <a:avLst/>
          </a:prstGeom>
          <a:noFill/>
          <a:ln w="0">
            <a:noFill/>
          </a:ln>
        </p:spPr>
        <p:txBody>
          <a:bodyPr lIns="288000" rIns="72000" tIns="36000" bIns="360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Name: hp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Type: logicalBoo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minOccurs: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maxOccurs: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Description: Indicates if a well is classified as HPHT (High pressure – high temperatu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Example input value: tr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Example output value: 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Footer Placeholder 3"/>
          <p:cNvSpPr/>
          <p:nvPr/>
        </p:nvSpPr>
        <p:spPr>
          <a:xfrm>
            <a:off x="8637840" y="6555240"/>
            <a:ext cx="1255320" cy="1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Insert "Title, Author, Dat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Slide Number Placeholder 4"/>
          <p:cNvSpPr/>
          <p:nvPr/>
        </p:nvSpPr>
        <p:spPr>
          <a:xfrm>
            <a:off x="9505440" y="6733080"/>
            <a:ext cx="536040" cy="1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B947B-3485-4561-AB4D-A7A54AA033DF}" type="slidenum"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Date Placeholder 5"/>
          <p:cNvSpPr/>
          <p:nvPr/>
        </p:nvSpPr>
        <p:spPr>
          <a:xfrm>
            <a:off x="6788160" y="6692760"/>
            <a:ext cx="287964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© 2010 Capgemini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1187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252000" bIns="36000" anchor="ctr">
            <a:noAutofit/>
          </a:bodyPr>
          <a:p>
            <a:pPr marL="7142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000" spc="-1" strike="noStrike">
                <a:solidFill>
                  <a:srgbClr val="009bcc"/>
                </a:solidFill>
                <a:latin typeface="Arial Narrow"/>
              </a:rPr>
              <a:t>Plug bump pressure</a:t>
            </a:r>
            <a:endParaRPr b="1" lang="en-US" sz="3000" spc="-1" strike="noStrike">
              <a:solidFill>
                <a:srgbClr val="009bcc"/>
              </a:solidFill>
              <a:latin typeface="Arial Narrow"/>
            </a:endParaRPr>
          </a:p>
        </p:txBody>
      </p:sp>
      <p:sp>
        <p:nvSpPr>
          <p:cNvPr id="663" name=""/>
          <p:cNvSpPr txBox="1"/>
          <p:nvPr/>
        </p:nvSpPr>
        <p:spPr>
          <a:xfrm>
            <a:off x="-360" y="1439640"/>
            <a:ext cx="9906120" cy="4679640"/>
          </a:xfrm>
          <a:prstGeom prst="rect">
            <a:avLst/>
          </a:prstGeom>
          <a:noFill/>
          <a:ln w="0">
            <a:noFill/>
          </a:ln>
        </p:spPr>
        <p:txBody>
          <a:bodyPr lIns="288000" rIns="72000" tIns="36000" bIns="360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Name: presBu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Type: pressureMea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minOccurs: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maxOccurs: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Description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sure plug bump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Example input value: 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Example output value: 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Footer Placeholder 3"/>
          <p:cNvSpPr/>
          <p:nvPr/>
        </p:nvSpPr>
        <p:spPr>
          <a:xfrm>
            <a:off x="8637840" y="6555240"/>
            <a:ext cx="1255320" cy="1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Insert "Title, Author, Dat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Slide Number Placeholder 4"/>
          <p:cNvSpPr/>
          <p:nvPr/>
        </p:nvSpPr>
        <p:spPr>
          <a:xfrm>
            <a:off x="9505440" y="6733080"/>
            <a:ext cx="536040" cy="1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8397F-200C-4060-A8C0-0123A4FC9CE3}" type="slidenum"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Date Placeholder 5"/>
          <p:cNvSpPr/>
          <p:nvPr/>
        </p:nvSpPr>
        <p:spPr>
          <a:xfrm>
            <a:off x="6788160" y="6692760"/>
            <a:ext cx="287964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© 2010 Capgemini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1187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252000" bIns="36000" anchor="ctr">
            <a:noAutofit/>
          </a:bodyPr>
          <a:p>
            <a:pPr marL="7142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000" spc="-1" strike="noStrike">
                <a:solidFill>
                  <a:srgbClr val="009bcc"/>
                </a:solidFill>
                <a:latin typeface="Arial Narrow"/>
              </a:rPr>
              <a:t>Float held</a:t>
            </a:r>
            <a:endParaRPr b="1" lang="en-US" sz="3000" spc="-1" strike="noStrike">
              <a:solidFill>
                <a:srgbClr val="009bcc"/>
              </a:solidFill>
              <a:latin typeface="Arial Narrow"/>
            </a:endParaRPr>
          </a:p>
        </p:txBody>
      </p:sp>
      <p:sp>
        <p:nvSpPr>
          <p:cNvPr id="668" name=""/>
          <p:cNvSpPr txBox="1"/>
          <p:nvPr/>
        </p:nvSpPr>
        <p:spPr>
          <a:xfrm>
            <a:off x="-360" y="1439640"/>
            <a:ext cx="9906120" cy="4679640"/>
          </a:xfrm>
          <a:prstGeom prst="rect">
            <a:avLst/>
          </a:prstGeom>
          <a:noFill/>
          <a:ln w="0">
            <a:noFill/>
          </a:ln>
        </p:spPr>
        <p:txBody>
          <a:bodyPr lIns="288000" rIns="72000" tIns="36000" bIns="360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Name: floatH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Type: logicalBoo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minOccurs: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maxOccurs: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Description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oat held? Values are "true" (or "1") and "false" (of "0"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Example input value: tr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Example output value: 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Footer Placeholder 3"/>
          <p:cNvSpPr/>
          <p:nvPr/>
        </p:nvSpPr>
        <p:spPr>
          <a:xfrm>
            <a:off x="8637840" y="6555240"/>
            <a:ext cx="1255320" cy="1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Insert "Title, Author, Dat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Slide Number Placeholder 4"/>
          <p:cNvSpPr/>
          <p:nvPr/>
        </p:nvSpPr>
        <p:spPr>
          <a:xfrm>
            <a:off x="9505440" y="6733080"/>
            <a:ext cx="536040" cy="1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80A14-74FC-4ED4-9DB1-03011122A6E2}" type="slidenum"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Date Placeholder 5"/>
          <p:cNvSpPr/>
          <p:nvPr/>
        </p:nvSpPr>
        <p:spPr>
          <a:xfrm>
            <a:off x="6788160" y="6692760"/>
            <a:ext cx="287964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© 2010 Capgemini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1187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252000" bIns="36000" anchor="ctr">
            <a:noAutofit/>
          </a:bodyPr>
          <a:p>
            <a:pPr marL="7142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000" spc="-1" strike="noStrike">
                <a:solidFill>
                  <a:srgbClr val="009bcc"/>
                </a:solidFill>
                <a:latin typeface="Arial Narrow"/>
              </a:rPr>
              <a:t>Pressure release time</a:t>
            </a:r>
            <a:endParaRPr b="1" lang="en-US" sz="3000" spc="-1" strike="noStrike">
              <a:solidFill>
                <a:srgbClr val="009bcc"/>
              </a:solidFill>
              <a:latin typeface="Arial Narrow"/>
            </a:endParaRPr>
          </a:p>
        </p:txBody>
      </p:sp>
      <p:sp>
        <p:nvSpPr>
          <p:cNvPr id="673" name=""/>
          <p:cNvSpPr txBox="1"/>
          <p:nvPr/>
        </p:nvSpPr>
        <p:spPr>
          <a:xfrm>
            <a:off x="-360" y="1439640"/>
            <a:ext cx="9906120" cy="4679640"/>
          </a:xfrm>
          <a:prstGeom prst="rect">
            <a:avLst/>
          </a:prstGeom>
          <a:noFill/>
          <a:ln w="0">
            <a:noFill/>
          </a:ln>
        </p:spPr>
        <p:txBody>
          <a:bodyPr lIns="288000" rIns="72000" tIns="36000" bIns="360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Name: eTimPresRel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Type: timesta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minOccurs: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maxOccurs: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Description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 pressure Rel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Example input value: 2011-02-07T12:00:00.000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Example output value: 2011-02-07 12: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Footer Placeholder 3"/>
          <p:cNvSpPr/>
          <p:nvPr/>
        </p:nvSpPr>
        <p:spPr>
          <a:xfrm>
            <a:off x="8637840" y="6555240"/>
            <a:ext cx="1255320" cy="1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Insert "Title, Author, Dat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Slide Number Placeholder 4"/>
          <p:cNvSpPr/>
          <p:nvPr/>
        </p:nvSpPr>
        <p:spPr>
          <a:xfrm>
            <a:off x="9505440" y="6733080"/>
            <a:ext cx="536040" cy="1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1D3C1-3C86-4A20-8B0F-A64EF4E7C6FD}" type="slidenum"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Date Placeholder 5"/>
          <p:cNvSpPr/>
          <p:nvPr/>
        </p:nvSpPr>
        <p:spPr>
          <a:xfrm>
            <a:off x="6788160" y="6692760"/>
            <a:ext cx="287964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© 2010 Capgemini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1187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252000" bIns="36000" anchor="ctr">
            <a:noAutofit/>
          </a:bodyPr>
          <a:p>
            <a:pPr marL="7142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000" spc="-1" strike="noStrike">
                <a:solidFill>
                  <a:srgbClr val="009bcc"/>
                </a:solidFill>
                <a:latin typeface="Arial Narrow"/>
              </a:rPr>
              <a:t>Full returns</a:t>
            </a:r>
            <a:endParaRPr b="1" lang="en-US" sz="3000" spc="-1" strike="noStrike">
              <a:solidFill>
                <a:srgbClr val="009bcc"/>
              </a:solidFill>
              <a:latin typeface="Arial Narrow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-360" y="1439640"/>
            <a:ext cx="9906120" cy="4679640"/>
          </a:xfrm>
          <a:prstGeom prst="rect">
            <a:avLst/>
          </a:prstGeom>
          <a:noFill/>
          <a:ln w="0">
            <a:noFill/>
          </a:ln>
        </p:spPr>
        <p:txBody>
          <a:bodyPr lIns="288000" rIns="72000" tIns="36000" bIns="360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Name: annFlowAf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Type: logicalBoo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minOccurs: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maxOccurs: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Description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uid returns. Values are "true" (or "1") and "false" (or "0"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Example input value: tr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Example output value: 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Footer Placeholder 3"/>
          <p:cNvSpPr/>
          <p:nvPr/>
        </p:nvSpPr>
        <p:spPr>
          <a:xfrm>
            <a:off x="8637840" y="6555240"/>
            <a:ext cx="1255320" cy="1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Insert "Title, Author, Dat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Slide Number Placeholder 4"/>
          <p:cNvSpPr/>
          <p:nvPr/>
        </p:nvSpPr>
        <p:spPr>
          <a:xfrm>
            <a:off x="9505440" y="6733080"/>
            <a:ext cx="536040" cy="1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66BED-6408-4402-BF06-BFBAE93CAAAE}" type="slidenum"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Date Placeholder 5"/>
          <p:cNvSpPr/>
          <p:nvPr/>
        </p:nvSpPr>
        <p:spPr>
          <a:xfrm>
            <a:off x="6788160" y="6692760"/>
            <a:ext cx="287964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© 2010 Capgemini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1187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252000" bIns="36000" anchor="ctr">
            <a:noAutofit/>
          </a:bodyPr>
          <a:p>
            <a:pPr marL="7142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000" spc="-1" strike="noStrike">
                <a:solidFill>
                  <a:srgbClr val="009bcc"/>
                </a:solidFill>
                <a:latin typeface="Arial Narrow"/>
              </a:rPr>
              <a:t>Cement volume returns</a:t>
            </a:r>
            <a:endParaRPr b="1" lang="en-US" sz="3000" spc="-1" strike="noStrike">
              <a:solidFill>
                <a:srgbClr val="009bcc"/>
              </a:solidFill>
              <a:latin typeface="Arial Narrow"/>
            </a:endParaRPr>
          </a:p>
        </p:txBody>
      </p:sp>
      <p:sp>
        <p:nvSpPr>
          <p:cNvPr id="683" name=""/>
          <p:cNvSpPr txBox="1"/>
          <p:nvPr/>
        </p:nvSpPr>
        <p:spPr>
          <a:xfrm>
            <a:off x="-360" y="1439640"/>
            <a:ext cx="9906120" cy="4679640"/>
          </a:xfrm>
          <a:prstGeom prst="rect">
            <a:avLst/>
          </a:prstGeom>
          <a:noFill/>
          <a:ln w="0">
            <a:noFill/>
          </a:ln>
        </p:spPr>
        <p:txBody>
          <a:bodyPr lIns="288000" rIns="72000" tIns="36000" bIns="360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Name: volRetu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Type: volumeMeasureCubicMet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minOccurs: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maxOccurs: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Description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lume of retur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Example input value: 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Example output value: 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Footer Placeholder 3"/>
          <p:cNvSpPr/>
          <p:nvPr/>
        </p:nvSpPr>
        <p:spPr>
          <a:xfrm>
            <a:off x="8637840" y="6555240"/>
            <a:ext cx="1255320" cy="1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Insert "Title, Author, Dat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Slide Number Placeholder 4"/>
          <p:cNvSpPr/>
          <p:nvPr/>
        </p:nvSpPr>
        <p:spPr>
          <a:xfrm>
            <a:off x="9505440" y="6733080"/>
            <a:ext cx="536040" cy="1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9F438-32D7-4727-87BB-B5B4814AB3E7}" type="slidenum"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Date Placeholder 5"/>
          <p:cNvSpPr/>
          <p:nvPr/>
        </p:nvSpPr>
        <p:spPr>
          <a:xfrm>
            <a:off x="6788160" y="6692760"/>
            <a:ext cx="287964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© 2010 Capgemini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1187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252000" bIns="36000" anchor="ctr">
            <a:noAutofit/>
          </a:bodyPr>
          <a:p>
            <a:pPr marL="7142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000" spc="-1" strike="noStrike">
                <a:solidFill>
                  <a:srgbClr val="009bcc"/>
                </a:solidFill>
                <a:latin typeface="Arial Narrow"/>
              </a:rPr>
              <a:t>Reciprocated</a:t>
            </a:r>
            <a:endParaRPr b="1" lang="en-US" sz="3000" spc="-1" strike="noStrike">
              <a:solidFill>
                <a:srgbClr val="009bcc"/>
              </a:solidFill>
              <a:latin typeface="Arial Narrow"/>
            </a:endParaRPr>
          </a:p>
        </p:txBody>
      </p:sp>
      <p:sp>
        <p:nvSpPr>
          <p:cNvPr id="688" name=""/>
          <p:cNvSpPr txBox="1"/>
          <p:nvPr/>
        </p:nvSpPr>
        <p:spPr>
          <a:xfrm>
            <a:off x="-360" y="1439640"/>
            <a:ext cx="9906120" cy="4679640"/>
          </a:xfrm>
          <a:prstGeom prst="rect">
            <a:avLst/>
          </a:prstGeom>
          <a:noFill/>
          <a:ln w="0">
            <a:noFill/>
          </a:ln>
        </p:spPr>
        <p:txBody>
          <a:bodyPr lIns="288000" rIns="72000" tIns="36000" bIns="360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Name: reciproc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Type: logicalBoo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minOccurs: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maxOccurs: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Description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 being reciprocated. values are "true"(1) and "false"(0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Example input value: tr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Example output value: 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Footer Placeholder 3"/>
          <p:cNvSpPr/>
          <p:nvPr/>
        </p:nvSpPr>
        <p:spPr>
          <a:xfrm>
            <a:off x="8637840" y="6555240"/>
            <a:ext cx="1255320" cy="1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Insert "Title, Author, Dat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Slide Number Placeholder 4"/>
          <p:cNvSpPr/>
          <p:nvPr/>
        </p:nvSpPr>
        <p:spPr>
          <a:xfrm>
            <a:off x="9505440" y="6733080"/>
            <a:ext cx="536040" cy="1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456FB-8E0E-4145-8D4C-B731ECE56A5E}" type="slidenum"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Date Placeholder 5"/>
          <p:cNvSpPr/>
          <p:nvPr/>
        </p:nvSpPr>
        <p:spPr>
          <a:xfrm>
            <a:off x="6788160" y="6692760"/>
            <a:ext cx="287964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© 2010 Capgemini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1187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252000" bIns="36000" anchor="ctr">
            <a:noAutofit/>
          </a:bodyPr>
          <a:p>
            <a:pPr marL="7142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000" spc="-1" strike="noStrike">
                <a:solidFill>
                  <a:srgbClr val="009bcc"/>
                </a:solidFill>
                <a:latin typeface="Arial Narrow"/>
              </a:rPr>
              <a:t>Rotated</a:t>
            </a:r>
            <a:endParaRPr b="1" lang="en-US" sz="3000" spc="-1" strike="noStrike">
              <a:solidFill>
                <a:srgbClr val="009bcc"/>
              </a:solidFill>
              <a:latin typeface="Arial Narrow"/>
            </a:endParaRPr>
          </a:p>
        </p:txBody>
      </p:sp>
      <p:sp>
        <p:nvSpPr>
          <p:cNvPr id="693" name=""/>
          <p:cNvSpPr txBox="1"/>
          <p:nvPr/>
        </p:nvSpPr>
        <p:spPr>
          <a:xfrm>
            <a:off x="-360" y="1439640"/>
            <a:ext cx="9906120" cy="4679640"/>
          </a:xfrm>
          <a:prstGeom prst="rect">
            <a:avLst/>
          </a:prstGeom>
          <a:noFill/>
          <a:ln w="0">
            <a:noFill/>
          </a:ln>
        </p:spPr>
        <p:txBody>
          <a:bodyPr lIns="288000" rIns="72000" tIns="36000" bIns="360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Name: rot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Type: logicalBoo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minOccurs: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maxOccurs: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Descriptio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sing string being rotated. Values are "true(1) and "false"(0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Example input value: tr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Example output value: 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Footer Placeholder 3"/>
          <p:cNvSpPr/>
          <p:nvPr/>
        </p:nvSpPr>
        <p:spPr>
          <a:xfrm>
            <a:off x="8637840" y="6555240"/>
            <a:ext cx="1255320" cy="1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Insert "Title, Author, Dat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Slide Number Placeholder 4"/>
          <p:cNvSpPr/>
          <p:nvPr/>
        </p:nvSpPr>
        <p:spPr>
          <a:xfrm>
            <a:off x="9505440" y="6733080"/>
            <a:ext cx="536040" cy="1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C31EC-96E6-465E-B666-F4BFA3A7F5AE}" type="slidenum"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Date Placeholder 5"/>
          <p:cNvSpPr/>
          <p:nvPr/>
        </p:nvSpPr>
        <p:spPr>
          <a:xfrm>
            <a:off x="6788160" y="6692760"/>
            <a:ext cx="287964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© 2010 Capgemini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1187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252000" bIns="36000" anchor="ctr">
            <a:noAutofit/>
          </a:bodyPr>
          <a:p>
            <a:pPr marL="7142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000" spc="-1" strike="noStrike">
                <a:solidFill>
                  <a:srgbClr val="009bcc"/>
                </a:solidFill>
                <a:latin typeface="Arial Narrow"/>
              </a:rPr>
              <a:t>Comments</a:t>
            </a:r>
            <a:endParaRPr b="1" lang="en-US" sz="3000" spc="-1" strike="noStrike">
              <a:solidFill>
                <a:srgbClr val="009bcc"/>
              </a:solidFill>
              <a:latin typeface="Arial Narrow"/>
            </a:endParaRPr>
          </a:p>
        </p:txBody>
      </p:sp>
      <p:sp>
        <p:nvSpPr>
          <p:cNvPr id="698" name=""/>
          <p:cNvSpPr txBox="1"/>
          <p:nvPr/>
        </p:nvSpPr>
        <p:spPr>
          <a:xfrm>
            <a:off x="-360" y="1439640"/>
            <a:ext cx="9906120" cy="4679640"/>
          </a:xfrm>
          <a:prstGeom prst="rect">
            <a:avLst/>
          </a:prstGeom>
          <a:noFill/>
          <a:ln w="0">
            <a:noFill/>
          </a:ln>
        </p:spPr>
        <p:txBody>
          <a:bodyPr lIns="288000" rIns="72000" tIns="36000" bIns="360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Name: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Type: commentSt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minOccurs: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maxOccurs: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Description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ents for a cement jo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Example input value: Lorem ipsum dolor sit amet, consectetur adipiscing elit. Praesent porttitor condimentum mi nec dictum. Quisque sodales lacinia lobortis. Donec interdu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Example output value: Lorem ipsum dolor sit amet, consectetur adipiscing elit. Praesent porttitor condimentum mi nec dictum. Quisque sodales lacinia lobortis. Donec interdu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Footer Placeholder 3"/>
          <p:cNvSpPr/>
          <p:nvPr/>
        </p:nvSpPr>
        <p:spPr>
          <a:xfrm>
            <a:off x="8637840" y="6555240"/>
            <a:ext cx="1255320" cy="1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Insert "Title, Author, Dat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Slide Number Placeholder 4"/>
          <p:cNvSpPr/>
          <p:nvPr/>
        </p:nvSpPr>
        <p:spPr>
          <a:xfrm>
            <a:off x="9505440" y="6733080"/>
            <a:ext cx="536040" cy="1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04D48-3815-45B0-8DA8-BFFEABD1BA12}" type="slidenum"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Date Placeholder 5"/>
          <p:cNvSpPr/>
          <p:nvPr/>
        </p:nvSpPr>
        <p:spPr>
          <a:xfrm>
            <a:off x="6788160" y="6692760"/>
            <a:ext cx="287964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© 2010 Capgemini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1187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252000" bIns="36000" anchor="ctr">
            <a:noAutofit/>
          </a:bodyPr>
          <a:p>
            <a:pPr marL="7142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000" spc="-1" strike="noStrike">
                <a:solidFill>
                  <a:srgbClr val="009bcc"/>
                </a:solidFill>
                <a:latin typeface="Arial Narrow"/>
              </a:rPr>
              <a:t>Fluid Type</a:t>
            </a:r>
            <a:endParaRPr b="1" lang="en-US" sz="3000" spc="-1" strike="noStrike">
              <a:solidFill>
                <a:srgbClr val="009bcc"/>
              </a:solidFill>
              <a:latin typeface="Arial Narrow"/>
            </a:endParaRPr>
          </a:p>
        </p:txBody>
      </p:sp>
      <p:sp>
        <p:nvSpPr>
          <p:cNvPr id="703" name=""/>
          <p:cNvSpPr txBox="1"/>
          <p:nvPr/>
        </p:nvSpPr>
        <p:spPr>
          <a:xfrm>
            <a:off x="-360" y="1439640"/>
            <a:ext cx="9906120" cy="4679640"/>
          </a:xfrm>
          <a:prstGeom prst="rect">
            <a:avLst/>
          </a:prstGeom>
          <a:noFill/>
          <a:ln w="0">
            <a:noFill/>
          </a:ln>
        </p:spPr>
        <p:txBody>
          <a:bodyPr lIns="288000" rIns="72000" tIns="36000" bIns="360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Name: typeFl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Type: fluid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minOccurs: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maxOccurs: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Description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uid type: Mud, Wash, Spacer, Slur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Example input value: 2011-02-07T12:00:00.000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Example output value: 12: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Footer Placeholder 3"/>
          <p:cNvSpPr/>
          <p:nvPr/>
        </p:nvSpPr>
        <p:spPr>
          <a:xfrm>
            <a:off x="8637840" y="6555240"/>
            <a:ext cx="1255320" cy="1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Insert "Title, Author, Dat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Slide Number Placeholder 4"/>
          <p:cNvSpPr/>
          <p:nvPr/>
        </p:nvSpPr>
        <p:spPr>
          <a:xfrm>
            <a:off x="9505440" y="6733080"/>
            <a:ext cx="536040" cy="1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69725-3519-47B5-A59F-243F47C47F50}" type="slidenum"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Date Placeholder 5"/>
          <p:cNvSpPr/>
          <p:nvPr/>
        </p:nvSpPr>
        <p:spPr>
          <a:xfrm>
            <a:off x="6788160" y="6692760"/>
            <a:ext cx="287964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© 2010 Capgemini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1187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252000" bIns="36000" anchor="ctr">
            <a:noAutofit/>
          </a:bodyPr>
          <a:p>
            <a:pPr marL="7142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000" spc="-1" strike="noStrike">
                <a:solidFill>
                  <a:srgbClr val="009bcc"/>
                </a:solidFill>
                <a:latin typeface="Arial Narrow"/>
              </a:rPr>
              <a:t>Volume pumped</a:t>
            </a:r>
            <a:endParaRPr b="1" lang="en-US" sz="3000" spc="-1" strike="noStrike">
              <a:solidFill>
                <a:srgbClr val="009bcc"/>
              </a:solidFill>
              <a:latin typeface="Arial Narrow"/>
            </a:endParaRPr>
          </a:p>
        </p:txBody>
      </p:sp>
      <p:sp>
        <p:nvSpPr>
          <p:cNvPr id="708" name=""/>
          <p:cNvSpPr txBox="1"/>
          <p:nvPr/>
        </p:nvSpPr>
        <p:spPr>
          <a:xfrm>
            <a:off x="-360" y="1439640"/>
            <a:ext cx="9906120" cy="4679640"/>
          </a:xfrm>
          <a:prstGeom prst="rect">
            <a:avLst/>
          </a:prstGeom>
          <a:noFill/>
          <a:ln w="0">
            <a:noFill/>
          </a:ln>
        </p:spPr>
        <p:txBody>
          <a:bodyPr lIns="288000" rIns="72000" tIns="36000" bIns="360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Name: volPump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Type: volumeMeasureCubicMet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minOccurs: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maxOccurs: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Description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lume Pump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Example input value: 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Example output value: 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Footer Placeholder 3"/>
          <p:cNvSpPr/>
          <p:nvPr/>
        </p:nvSpPr>
        <p:spPr>
          <a:xfrm>
            <a:off x="8637840" y="6555240"/>
            <a:ext cx="1255320" cy="1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Insert "Title, Author, Dat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Slide Number Placeholder 4"/>
          <p:cNvSpPr/>
          <p:nvPr/>
        </p:nvSpPr>
        <p:spPr>
          <a:xfrm>
            <a:off x="9505440" y="6733080"/>
            <a:ext cx="536040" cy="1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E0351-23B1-4A09-93F4-4E40B65706D5}" type="slidenum"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Date Placeholder 5"/>
          <p:cNvSpPr/>
          <p:nvPr/>
        </p:nvSpPr>
        <p:spPr>
          <a:xfrm>
            <a:off x="6788160" y="6692760"/>
            <a:ext cx="287964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© 2010 Capgemini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1187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252000" bIns="36000" anchor="ctr">
            <a:noAutofit/>
          </a:bodyPr>
          <a:p>
            <a:pPr marL="7142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000" spc="-1" strike="noStrike">
                <a:solidFill>
                  <a:srgbClr val="009bcc"/>
                </a:solidFill>
                <a:latin typeface="Arial Narrow"/>
              </a:rPr>
              <a:t>Pressure</a:t>
            </a:r>
            <a:endParaRPr b="1" lang="en-US" sz="3000" spc="-1" strike="noStrike">
              <a:solidFill>
                <a:srgbClr val="009bcc"/>
              </a:solidFill>
              <a:latin typeface="Arial Narrow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-360" y="1439640"/>
            <a:ext cx="9906120" cy="4679640"/>
          </a:xfrm>
          <a:prstGeom prst="rect">
            <a:avLst/>
          </a:prstGeom>
          <a:noFill/>
          <a:ln w="0">
            <a:noFill/>
          </a:ln>
        </p:spPr>
        <p:txBody>
          <a:bodyPr lIns="288000" rIns="72000" tIns="36000" bIns="360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Name: avgPresB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Type: pressureMeasurePsi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minOccurs: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maxOccurs: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Description: Average bottomhole pressure (psi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Example input value: 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Example output value: 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Footer Placeholder 3"/>
          <p:cNvSpPr/>
          <p:nvPr/>
        </p:nvSpPr>
        <p:spPr>
          <a:xfrm>
            <a:off x="8637840" y="6555240"/>
            <a:ext cx="1255320" cy="1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Insert "Title, Author, Dat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Slide Number Placeholder 4"/>
          <p:cNvSpPr/>
          <p:nvPr/>
        </p:nvSpPr>
        <p:spPr>
          <a:xfrm>
            <a:off x="9505440" y="6733080"/>
            <a:ext cx="536040" cy="1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880D8-076B-43E3-ADB6-8D59F06BC9D6}" type="slidenum"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Date Placeholder 5"/>
          <p:cNvSpPr/>
          <p:nvPr/>
        </p:nvSpPr>
        <p:spPr>
          <a:xfrm>
            <a:off x="6788160" y="6692760"/>
            <a:ext cx="287964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© 2010 Capgemini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1187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252000" bIns="36000" anchor="ctr">
            <a:noAutofit/>
          </a:bodyPr>
          <a:p>
            <a:pPr marL="7142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000" spc="-1" strike="noStrike">
                <a:solidFill>
                  <a:srgbClr val="009bcc"/>
                </a:solidFill>
                <a:latin typeface="Arial Narrow"/>
              </a:rPr>
              <a:t>Fluid density</a:t>
            </a:r>
            <a:endParaRPr b="1" lang="en-US" sz="3000" spc="-1" strike="noStrike">
              <a:solidFill>
                <a:srgbClr val="009bcc"/>
              </a:solidFill>
              <a:latin typeface="Arial Narrow"/>
            </a:endParaRPr>
          </a:p>
        </p:txBody>
      </p:sp>
      <p:sp>
        <p:nvSpPr>
          <p:cNvPr id="713" name=""/>
          <p:cNvSpPr txBox="1"/>
          <p:nvPr/>
        </p:nvSpPr>
        <p:spPr>
          <a:xfrm>
            <a:off x="-360" y="1439640"/>
            <a:ext cx="9906120" cy="4679640"/>
          </a:xfrm>
          <a:prstGeom prst="rect">
            <a:avLst/>
          </a:prstGeom>
          <a:noFill/>
          <a:ln w="0">
            <a:noFill/>
          </a:ln>
        </p:spPr>
        <p:txBody>
          <a:bodyPr lIns="288000" rIns="72000" tIns="36000" bIns="360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Name: den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Type: densityMea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minOccurs: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maxOccurs: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Description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uid den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Example input value: 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Example output value: 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Footer Placeholder 3"/>
          <p:cNvSpPr/>
          <p:nvPr/>
        </p:nvSpPr>
        <p:spPr>
          <a:xfrm>
            <a:off x="8637840" y="6555240"/>
            <a:ext cx="1255320" cy="1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Insert "Title, Author, Dat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Slide Number Placeholder 4"/>
          <p:cNvSpPr/>
          <p:nvPr/>
        </p:nvSpPr>
        <p:spPr>
          <a:xfrm>
            <a:off x="9505440" y="6733080"/>
            <a:ext cx="536040" cy="1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64638-5CA1-41A9-A926-5DE588306BB3}" type="slidenum"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Date Placeholder 5"/>
          <p:cNvSpPr/>
          <p:nvPr/>
        </p:nvSpPr>
        <p:spPr>
          <a:xfrm>
            <a:off x="6788160" y="6692760"/>
            <a:ext cx="287964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© 2010 Capgemini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1187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252000" bIns="36000" anchor="ctr">
            <a:noAutofit/>
          </a:bodyPr>
          <a:p>
            <a:pPr marL="7142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000" spc="-1" strike="noStrike">
                <a:solidFill>
                  <a:srgbClr val="009bcc"/>
                </a:solidFill>
                <a:latin typeface="Arial Narrow"/>
              </a:rPr>
              <a:t>Yield point</a:t>
            </a:r>
            <a:endParaRPr b="1" lang="en-US" sz="3000" spc="-1" strike="noStrike">
              <a:solidFill>
                <a:srgbClr val="009bcc"/>
              </a:solidFill>
              <a:latin typeface="Arial Narrow"/>
            </a:endParaRPr>
          </a:p>
        </p:txBody>
      </p:sp>
      <p:sp>
        <p:nvSpPr>
          <p:cNvPr id="718" name=""/>
          <p:cNvSpPr txBox="1"/>
          <p:nvPr/>
        </p:nvSpPr>
        <p:spPr>
          <a:xfrm>
            <a:off x="-360" y="1439640"/>
            <a:ext cx="9906120" cy="4679640"/>
          </a:xfrm>
          <a:prstGeom prst="rect">
            <a:avLst/>
          </a:prstGeom>
          <a:noFill/>
          <a:ln w="0">
            <a:noFill/>
          </a:ln>
        </p:spPr>
        <p:txBody>
          <a:bodyPr lIns="288000" rIns="72000" tIns="36000" bIns="360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Name: y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Type: specificVolumeMeasureCubicFeetPer94PoundS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minOccurs: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maxOccurs: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Description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eld point (Bingham and Herschel Bulkley model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Example input value: 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Example output value: 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Footer Placeholder 3"/>
          <p:cNvSpPr/>
          <p:nvPr/>
        </p:nvSpPr>
        <p:spPr>
          <a:xfrm>
            <a:off x="8637840" y="6555240"/>
            <a:ext cx="1255320" cy="1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Insert "Title, Author, Dat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Slide Number Placeholder 4"/>
          <p:cNvSpPr/>
          <p:nvPr/>
        </p:nvSpPr>
        <p:spPr>
          <a:xfrm>
            <a:off x="9505440" y="6733080"/>
            <a:ext cx="536040" cy="1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C403A-3366-4847-8CE1-6B10465688BE}" type="slidenum"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Date Placeholder 5"/>
          <p:cNvSpPr/>
          <p:nvPr/>
        </p:nvSpPr>
        <p:spPr>
          <a:xfrm>
            <a:off x="6788160" y="6692760"/>
            <a:ext cx="287964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© 2010 Capgemini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1187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252000" bIns="36000" anchor="ctr">
            <a:noAutofit/>
          </a:bodyPr>
          <a:p>
            <a:pPr marL="7142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000" spc="-1" strike="noStrike">
                <a:solidFill>
                  <a:srgbClr val="009bcc"/>
                </a:solidFill>
                <a:latin typeface="Arial Narrow"/>
              </a:rPr>
              <a:t>Mix water ratio</a:t>
            </a:r>
            <a:endParaRPr b="1" lang="en-US" sz="3000" spc="-1" strike="noStrike">
              <a:solidFill>
                <a:srgbClr val="009bcc"/>
              </a:solidFill>
              <a:latin typeface="Arial Narrow"/>
            </a:endParaRPr>
          </a:p>
        </p:txBody>
      </p:sp>
      <p:sp>
        <p:nvSpPr>
          <p:cNvPr id="723" name=""/>
          <p:cNvSpPr txBox="1"/>
          <p:nvPr/>
        </p:nvSpPr>
        <p:spPr>
          <a:xfrm>
            <a:off x="-360" y="1439640"/>
            <a:ext cx="9906120" cy="4679640"/>
          </a:xfrm>
          <a:prstGeom prst="rect">
            <a:avLst/>
          </a:prstGeom>
          <a:noFill/>
          <a:ln w="0">
            <a:noFill/>
          </a:ln>
        </p:spPr>
        <p:txBody>
          <a:bodyPr lIns="288000" rIns="72000" tIns="36000" bIns="360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Name: ratioMix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Type: specificVolumeMeasureUsGallonsPerSack9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minOccurs: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maxOccurs: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Description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x water rat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Example input value: 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Example output value: 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Footer Placeholder 3"/>
          <p:cNvSpPr/>
          <p:nvPr/>
        </p:nvSpPr>
        <p:spPr>
          <a:xfrm>
            <a:off x="8637840" y="6555240"/>
            <a:ext cx="1255320" cy="1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Insert "Title, Author, Dat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Slide Number Placeholder 4"/>
          <p:cNvSpPr/>
          <p:nvPr/>
        </p:nvSpPr>
        <p:spPr>
          <a:xfrm>
            <a:off x="9505440" y="6733080"/>
            <a:ext cx="536040" cy="1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D41C3-78C3-4EB7-97C5-806CC4D8826B}" type="slidenum"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Date Placeholder 5"/>
          <p:cNvSpPr/>
          <p:nvPr/>
        </p:nvSpPr>
        <p:spPr>
          <a:xfrm>
            <a:off x="6788160" y="6692760"/>
            <a:ext cx="287964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© 2010 Capgemini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1187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252000" bIns="36000" anchor="ctr">
            <a:noAutofit/>
          </a:bodyPr>
          <a:p>
            <a:pPr marL="7142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000" spc="-1" strike="noStrike">
                <a:solidFill>
                  <a:srgbClr val="009bcc"/>
                </a:solidFill>
                <a:latin typeface="Arial Narrow"/>
              </a:rPr>
              <a:t>Free water</a:t>
            </a:r>
            <a:endParaRPr b="1" lang="en-US" sz="3000" spc="-1" strike="noStrike">
              <a:solidFill>
                <a:srgbClr val="009bcc"/>
              </a:solidFill>
              <a:latin typeface="Arial Narrow"/>
            </a:endParaRPr>
          </a:p>
        </p:txBody>
      </p:sp>
      <p:sp>
        <p:nvSpPr>
          <p:cNvPr id="728" name=""/>
          <p:cNvSpPr txBox="1"/>
          <p:nvPr/>
        </p:nvSpPr>
        <p:spPr>
          <a:xfrm>
            <a:off x="-360" y="1439640"/>
            <a:ext cx="9906120" cy="4679640"/>
          </a:xfrm>
          <a:prstGeom prst="rect">
            <a:avLst/>
          </a:prstGeom>
          <a:noFill/>
          <a:ln w="0">
            <a:noFill/>
          </a:ln>
        </p:spPr>
        <p:txBody>
          <a:bodyPr lIns="288000" rIns="72000" tIns="36000" bIns="360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Name: pcFree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Type: volumePerVolumeMeasurePerc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minOccurs: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maxOccurs: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Description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free water na: = mL/250M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Example input value: 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Example output value: 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Footer Placeholder 3"/>
          <p:cNvSpPr/>
          <p:nvPr/>
        </p:nvSpPr>
        <p:spPr>
          <a:xfrm>
            <a:off x="8637840" y="6555240"/>
            <a:ext cx="1255320" cy="1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Insert "Title, Author, Dat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Slide Number Placeholder 4"/>
          <p:cNvSpPr/>
          <p:nvPr/>
        </p:nvSpPr>
        <p:spPr>
          <a:xfrm>
            <a:off x="9505440" y="6733080"/>
            <a:ext cx="536040" cy="1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FAFBB-1EDF-4AA1-8CBF-8D7A19D4D7DA}" type="slidenum"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Date Placeholder 5"/>
          <p:cNvSpPr/>
          <p:nvPr/>
        </p:nvSpPr>
        <p:spPr>
          <a:xfrm>
            <a:off x="6788160" y="6692760"/>
            <a:ext cx="287964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© 2010 Capgemini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1187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252000" bIns="36000" anchor="ctr">
            <a:noAutofit/>
          </a:bodyPr>
          <a:p>
            <a:pPr marL="7142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000" spc="-1" strike="noStrike">
                <a:solidFill>
                  <a:srgbClr val="009bcc"/>
                </a:solidFill>
                <a:latin typeface="Arial Narrow"/>
              </a:rPr>
              <a:t>Thick time</a:t>
            </a:r>
            <a:endParaRPr b="1" lang="en-US" sz="3000" spc="-1" strike="noStrike">
              <a:solidFill>
                <a:srgbClr val="009bcc"/>
              </a:solidFill>
              <a:latin typeface="Arial Narrow"/>
            </a:endParaRPr>
          </a:p>
        </p:txBody>
      </p:sp>
      <p:sp>
        <p:nvSpPr>
          <p:cNvPr id="733" name=""/>
          <p:cNvSpPr txBox="1"/>
          <p:nvPr/>
        </p:nvSpPr>
        <p:spPr>
          <a:xfrm>
            <a:off x="-360" y="1439640"/>
            <a:ext cx="9906120" cy="4679640"/>
          </a:xfrm>
          <a:prstGeom prst="rect">
            <a:avLst/>
          </a:prstGeom>
          <a:noFill/>
          <a:ln w="0">
            <a:noFill/>
          </a:ln>
        </p:spPr>
        <p:txBody>
          <a:bodyPr lIns="288000" rIns="72000" tIns="36000" bIns="360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Name: eTimThicke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Type: timeMeasureH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minOccurs: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maxOccurs: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Description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thickening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Example input value: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Example output value: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Footer Placeholder 3"/>
          <p:cNvSpPr/>
          <p:nvPr/>
        </p:nvSpPr>
        <p:spPr>
          <a:xfrm>
            <a:off x="8637840" y="6555240"/>
            <a:ext cx="1255320" cy="1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Insert "Title, Author, Dat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Slide Number Placeholder 4"/>
          <p:cNvSpPr/>
          <p:nvPr/>
        </p:nvSpPr>
        <p:spPr>
          <a:xfrm>
            <a:off x="9505440" y="6733080"/>
            <a:ext cx="536040" cy="1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81E81-7127-4EF7-883C-68503828A096}" type="slidenum"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Date Placeholder 5"/>
          <p:cNvSpPr/>
          <p:nvPr/>
        </p:nvSpPr>
        <p:spPr>
          <a:xfrm>
            <a:off x="6788160" y="6692760"/>
            <a:ext cx="287964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© 2010 Capgemini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1187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252000" bIns="36000" anchor="ctr">
            <a:noAutofit/>
          </a:bodyPr>
          <a:p>
            <a:pPr marL="7142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000" spc="-1" strike="noStrike">
                <a:solidFill>
                  <a:srgbClr val="009bcc"/>
                </a:solidFill>
                <a:latin typeface="Arial Narrow"/>
              </a:rPr>
              <a:t>Fluid description</a:t>
            </a:r>
            <a:endParaRPr b="1" lang="en-US" sz="3000" spc="-1" strike="noStrike">
              <a:solidFill>
                <a:srgbClr val="009bcc"/>
              </a:solidFill>
              <a:latin typeface="Arial Narrow"/>
            </a:endParaRPr>
          </a:p>
        </p:txBody>
      </p:sp>
      <p:sp>
        <p:nvSpPr>
          <p:cNvPr id="738" name=""/>
          <p:cNvSpPr txBox="1"/>
          <p:nvPr/>
        </p:nvSpPr>
        <p:spPr>
          <a:xfrm>
            <a:off x="-360" y="1439640"/>
            <a:ext cx="9906120" cy="4679640"/>
          </a:xfrm>
          <a:prstGeom prst="rect">
            <a:avLst/>
          </a:prstGeom>
          <a:noFill/>
          <a:ln w="0">
            <a:noFill/>
          </a:ln>
        </p:spPr>
        <p:txBody>
          <a:bodyPr lIns="288000" rIns="72000" tIns="36000" bIns="360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Name: descFl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Type: descriptionSt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minOccurs: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maxOccurs: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Description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uid descri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Example input value: Lorem ipsum dolor sit amet, consectetur adipiscing elit. Praesent porttitor condimentum mi nec dictum. Quisque sodales lacinia lobortis. Donec interdum. Example output value: Lorem ipsum dolor sit amet, consectetur adipiscing elit. Praesent porttitor condimentum mi nec dictum. Quisque sodales lacinia lobortis. Donec interdu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Footer Placeholder 3"/>
          <p:cNvSpPr/>
          <p:nvPr/>
        </p:nvSpPr>
        <p:spPr>
          <a:xfrm>
            <a:off x="8637840" y="6555240"/>
            <a:ext cx="1255320" cy="1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Insert "Title, Author, Dat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Slide Number Placeholder 4"/>
          <p:cNvSpPr/>
          <p:nvPr/>
        </p:nvSpPr>
        <p:spPr>
          <a:xfrm>
            <a:off x="9505440" y="6733080"/>
            <a:ext cx="536040" cy="1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B734D-3D57-493E-A3BC-97CE1E07FD2B}" type="slidenum"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Date Placeholder 5"/>
          <p:cNvSpPr/>
          <p:nvPr/>
        </p:nvSpPr>
        <p:spPr>
          <a:xfrm>
            <a:off x="6788160" y="6692760"/>
            <a:ext cx="287964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© 2010 Capgemini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1187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252000" bIns="36000" anchor="ctr">
            <a:noAutofit/>
          </a:bodyPr>
          <a:p>
            <a:pPr marL="7142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000" spc="-1" strike="noStrike">
                <a:solidFill>
                  <a:srgbClr val="009bcc"/>
                </a:solidFill>
                <a:latin typeface="Arial Narrow"/>
              </a:rPr>
              <a:t>Comments</a:t>
            </a:r>
            <a:endParaRPr b="1" lang="en-US" sz="3000" spc="-1" strike="noStrike">
              <a:solidFill>
                <a:srgbClr val="009bcc"/>
              </a:solidFill>
              <a:latin typeface="Arial Narrow"/>
            </a:endParaRPr>
          </a:p>
        </p:txBody>
      </p:sp>
      <p:sp>
        <p:nvSpPr>
          <p:cNvPr id="743" name=""/>
          <p:cNvSpPr txBox="1"/>
          <p:nvPr/>
        </p:nvSpPr>
        <p:spPr>
          <a:xfrm>
            <a:off x="-360" y="1439640"/>
            <a:ext cx="9906120" cy="4679640"/>
          </a:xfrm>
          <a:prstGeom prst="rect">
            <a:avLst/>
          </a:prstGeom>
          <a:noFill/>
          <a:ln w="0">
            <a:noFill/>
          </a:ln>
        </p:spPr>
        <p:txBody>
          <a:bodyPr lIns="288000" rIns="72000" tIns="36000" bIns="360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Name: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Type: commentSt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minOccurs: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maxOccurs: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Description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ents for cementing flu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Example input value: Lorem ipsum dolor sit amet, consectetur adipiscing elit. Praesent porttitor condimentum mi nec dictum. Quisque sodales lacinia lobortis. Donec interdum. Example output value: Lorem ipsum dolor sit amet, consectetur adipiscing elit. Praesent porttitor condimentum mi nec dictum. Quisque sodales lacinia lobortis. Donec interdu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Footer Placeholder 3"/>
          <p:cNvSpPr/>
          <p:nvPr/>
        </p:nvSpPr>
        <p:spPr>
          <a:xfrm>
            <a:off x="8637840" y="6555240"/>
            <a:ext cx="1255320" cy="1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Insert "Title, Author, Dat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Slide Number Placeholder 4"/>
          <p:cNvSpPr/>
          <p:nvPr/>
        </p:nvSpPr>
        <p:spPr>
          <a:xfrm>
            <a:off x="9505440" y="6733080"/>
            <a:ext cx="536040" cy="1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8B292-C9B3-4A88-BCA9-59EAE7C9A7A7}" type="slidenum"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Date Placeholder 5"/>
          <p:cNvSpPr/>
          <p:nvPr/>
        </p:nvSpPr>
        <p:spPr>
          <a:xfrm>
            <a:off x="6788160" y="6692760"/>
            <a:ext cx="287964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© 2010 Capgemini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1187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252000" bIns="36000" anchor="ctr">
            <a:noAutofit/>
          </a:bodyPr>
          <a:p>
            <a:pPr marL="7142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000" spc="-1" strike="noStrike">
                <a:solidFill>
                  <a:srgbClr val="009bcc"/>
                </a:solidFill>
                <a:latin typeface="Arial Narrow"/>
              </a:rPr>
              <a:t>Perforation Information</a:t>
            </a:r>
            <a:endParaRPr b="1" lang="en-US" sz="3000" spc="-1" strike="noStrike">
              <a:solidFill>
                <a:srgbClr val="009bcc"/>
              </a:solidFill>
              <a:latin typeface="Arial Narrow"/>
            </a:endParaRPr>
          </a:p>
        </p:txBody>
      </p:sp>
      <p:pic>
        <p:nvPicPr>
          <p:cNvPr id="748" name="Content Placeholder 6" descr="perforationinfo.png"/>
          <p:cNvPicPr/>
          <p:nvPr/>
        </p:nvPicPr>
        <p:blipFill>
          <a:blip r:embed="rId1"/>
          <a:stretch/>
        </p:blipFill>
        <p:spPr>
          <a:xfrm>
            <a:off x="138240" y="3209760"/>
            <a:ext cx="9629640" cy="1140120"/>
          </a:xfrm>
          <a:prstGeom prst="rect">
            <a:avLst/>
          </a:prstGeom>
          <a:ln w="0">
            <a:noFill/>
          </a:ln>
        </p:spPr>
      </p:pic>
      <p:sp>
        <p:nvSpPr>
          <p:cNvPr id="749" name="Footer Placeholder 3"/>
          <p:cNvSpPr/>
          <p:nvPr/>
        </p:nvSpPr>
        <p:spPr>
          <a:xfrm>
            <a:off x="8637840" y="6555240"/>
            <a:ext cx="1255320" cy="1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Insert "Title, Author, Dat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Slide Number Placeholder 4"/>
          <p:cNvSpPr/>
          <p:nvPr/>
        </p:nvSpPr>
        <p:spPr>
          <a:xfrm>
            <a:off x="9505440" y="6733080"/>
            <a:ext cx="536040" cy="1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CAF5A-EFFF-4596-99A4-9D027ABBF429}" type="slidenum"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Date Placeholder 5"/>
          <p:cNvSpPr/>
          <p:nvPr/>
        </p:nvSpPr>
        <p:spPr>
          <a:xfrm>
            <a:off x="6788160" y="6692760"/>
            <a:ext cx="287964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© 2010 Capgemini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1187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252000" bIns="36000" anchor="ctr">
            <a:noAutofit/>
          </a:bodyPr>
          <a:p>
            <a:pPr marL="7142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000" spc="-1" strike="noStrike">
                <a:solidFill>
                  <a:srgbClr val="009bcc"/>
                </a:solidFill>
                <a:latin typeface="Arial Narrow"/>
              </a:rPr>
              <a:t>Duration Well Perf</a:t>
            </a:r>
            <a:endParaRPr b="1" lang="en-US" sz="3000" spc="-1" strike="noStrike">
              <a:solidFill>
                <a:srgbClr val="009bcc"/>
              </a:solidFill>
              <a:latin typeface="Arial Narrow"/>
            </a:endParaRPr>
          </a:p>
        </p:txBody>
      </p:sp>
      <p:sp>
        <p:nvSpPr>
          <p:cNvPr id="753" name=""/>
          <p:cNvSpPr txBox="1"/>
          <p:nvPr/>
        </p:nvSpPr>
        <p:spPr>
          <a:xfrm>
            <a:off x="-360" y="1439640"/>
            <a:ext cx="9906120" cy="4679640"/>
          </a:xfrm>
          <a:prstGeom prst="rect">
            <a:avLst/>
          </a:prstGeom>
          <a:noFill/>
          <a:ln w="0">
            <a:noFill/>
          </a:ln>
        </p:spPr>
        <p:txBody>
          <a:bodyPr lIns="288000" rIns="72000" tIns="36000" bIns="360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Type: Calculated f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Example output value: 15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Footer Placeholder 3"/>
          <p:cNvSpPr/>
          <p:nvPr/>
        </p:nvSpPr>
        <p:spPr>
          <a:xfrm>
            <a:off x="8637840" y="6555240"/>
            <a:ext cx="1255320" cy="1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Insert "Title, Author, Dat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Slide Number Placeholder 4"/>
          <p:cNvSpPr/>
          <p:nvPr/>
        </p:nvSpPr>
        <p:spPr>
          <a:xfrm>
            <a:off x="9505440" y="6733080"/>
            <a:ext cx="536040" cy="1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0A4D7-19AA-426E-8ED9-60F6674541C7}" type="slidenum"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Date Placeholder 5"/>
          <p:cNvSpPr/>
          <p:nvPr/>
        </p:nvSpPr>
        <p:spPr>
          <a:xfrm>
            <a:off x="6788160" y="6692760"/>
            <a:ext cx="287964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© 2010 Capgemini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1187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252000" bIns="36000" anchor="ctr">
            <a:noAutofit/>
          </a:bodyPr>
          <a:p>
            <a:pPr marL="7142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9bcc"/>
                </a:solidFill>
                <a:latin typeface="Arial Narrow"/>
              </a:rPr>
              <a:t>More information</a:t>
            </a:r>
            <a:endParaRPr b="1" lang="en-US" sz="3000" spc="-1" strike="noStrike">
              <a:solidFill>
                <a:srgbClr val="009bcc"/>
              </a:solidFill>
              <a:latin typeface="Arial Narrow"/>
            </a:endParaRPr>
          </a:p>
        </p:txBody>
      </p:sp>
      <p:sp>
        <p:nvSpPr>
          <p:cNvPr id="758" name="Espace réservé du pied de page 2"/>
          <p:cNvSpPr/>
          <p:nvPr/>
        </p:nvSpPr>
        <p:spPr>
          <a:xfrm>
            <a:off x="7059240" y="6555240"/>
            <a:ext cx="2787120" cy="1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Daily Drilling Report 1.2.0 Elements, Yao Bo Lu, 11/05.20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Espace réservé du numéro de diapositive 3"/>
          <p:cNvSpPr/>
          <p:nvPr/>
        </p:nvSpPr>
        <p:spPr>
          <a:xfrm>
            <a:off x="9505440" y="6733080"/>
            <a:ext cx="536040" cy="1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45A89-B6AE-46F7-A4BF-CFC5C8A94416}" type="slidenum"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Espace réservé de la date 4"/>
          <p:cNvSpPr/>
          <p:nvPr/>
        </p:nvSpPr>
        <p:spPr>
          <a:xfrm>
            <a:off x="6788160" y="6692760"/>
            <a:ext cx="287964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© 2010 Capgemini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1" name="Groupe 5"/>
          <p:cNvGrpSpPr/>
          <p:nvPr/>
        </p:nvGrpSpPr>
        <p:grpSpPr>
          <a:xfrm>
            <a:off x="2365200" y="1636560"/>
            <a:ext cx="5328000" cy="2446560"/>
            <a:chOff x="2365200" y="1636560"/>
            <a:chExt cx="5328000" cy="2446560"/>
          </a:xfrm>
        </p:grpSpPr>
        <p:grpSp>
          <p:nvGrpSpPr>
            <p:cNvPr id="762" name="Arrondir un rectangle avec un coin diagonal 6"/>
            <p:cNvGrpSpPr/>
            <p:nvPr/>
          </p:nvGrpSpPr>
          <p:grpSpPr>
            <a:xfrm>
              <a:off x="2596320" y="1856880"/>
              <a:ext cx="5096880" cy="2226240"/>
              <a:chOff x="2596320" y="1856880"/>
              <a:chExt cx="5096880" cy="2226240"/>
            </a:xfrm>
          </p:grpSpPr>
          <p:pic>
            <p:nvPicPr>
              <p:cNvPr id="763" name="Arrondir un rectangle avec un coin diagonal 6" descr=""/>
              <p:cNvPicPr/>
              <p:nvPr/>
            </p:nvPicPr>
            <p:blipFill>
              <a:blip r:embed="rId1"/>
              <a:stretch/>
            </p:blipFill>
            <p:spPr>
              <a:xfrm>
                <a:off x="2596320" y="1856880"/>
                <a:ext cx="5096880" cy="2226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64" name=""/>
              <p:cNvSpPr/>
              <p:nvPr/>
            </p:nvSpPr>
            <p:spPr>
              <a:xfrm>
                <a:off x="2723400" y="1984680"/>
                <a:ext cx="4844880" cy="197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0" rIns="36000" tIns="252000" bIns="18000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01"/>
                  </a:spcBef>
                  <a:spcAft>
                    <a:spcPts val="6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Please contact: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spcBef>
                    <a:spcPts val="601"/>
                  </a:spcBef>
                  <a:spcAft>
                    <a:spcPts val="601"/>
                  </a:spcAft>
                  <a:buClr>
                    <a:srgbClr val="009bcc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tein Arve Finnestad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tein-arve.finnestad@capgemini.com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spcBef>
                    <a:spcPts val="601"/>
                  </a:spcBef>
                  <a:spcAft>
                    <a:spcPts val="601"/>
                  </a:spcAft>
                  <a:buClr>
                    <a:srgbClr val="009bcc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Yao Bo Lu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yao-bo.lu@capgemini.com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65" name="Picture 14" descr="CBE_Label_RGB"/>
            <p:cNvPicPr/>
            <p:nvPr/>
          </p:nvPicPr>
          <p:blipFill>
            <a:blip r:embed="rId2"/>
            <a:stretch/>
          </p:blipFill>
          <p:spPr>
            <a:xfrm>
              <a:off x="2365200" y="1636560"/>
              <a:ext cx="596880" cy="597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1187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252000" bIns="36000" anchor="ctr">
            <a:noAutofit/>
          </a:bodyPr>
          <a:p>
            <a:pPr marL="7142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000" spc="-1" strike="noStrike">
                <a:solidFill>
                  <a:srgbClr val="009bcc"/>
                </a:solidFill>
                <a:latin typeface="Arial Narrow"/>
              </a:rPr>
              <a:t>Temperature</a:t>
            </a:r>
            <a:endParaRPr b="1" lang="en-US" sz="3000" spc="-1" strike="noStrike">
              <a:solidFill>
                <a:srgbClr val="009bcc"/>
              </a:solidFill>
              <a:latin typeface="Arial Narrow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-360" y="1439640"/>
            <a:ext cx="9906120" cy="4679640"/>
          </a:xfrm>
          <a:prstGeom prst="rect">
            <a:avLst/>
          </a:prstGeom>
          <a:noFill/>
          <a:ln w="0">
            <a:noFill/>
          </a:ln>
        </p:spPr>
        <p:txBody>
          <a:bodyPr lIns="288000" rIns="72000" tIns="36000" bIns="360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Name: avgTempB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Type: thermodynamicTemperatureMeasureCelsi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minOccurs: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maxOccurs: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Description: Average bottomhole temperature(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Example input value: 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Example output value: 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Footer Placeholder 3"/>
          <p:cNvSpPr/>
          <p:nvPr/>
        </p:nvSpPr>
        <p:spPr>
          <a:xfrm>
            <a:off x="8637840" y="6555240"/>
            <a:ext cx="1255320" cy="1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Insert "Title, Author, Dat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Slide Number Placeholder 4"/>
          <p:cNvSpPr/>
          <p:nvPr/>
        </p:nvSpPr>
        <p:spPr>
          <a:xfrm>
            <a:off x="9505440" y="6733080"/>
            <a:ext cx="536040" cy="1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1F322-B616-4896-9D45-A3FEF6D9065B}" type="slidenum"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Date Placeholder 5"/>
          <p:cNvSpPr/>
          <p:nvPr/>
        </p:nvSpPr>
        <p:spPr>
          <a:xfrm>
            <a:off x="6788160" y="6692760"/>
            <a:ext cx="287964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© 2010 Capgemini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b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1187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252000" bIns="36000" anchor="ctr">
            <a:noAutofit/>
          </a:bodyPr>
          <a:p>
            <a:pPr marL="7142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000" spc="-1" strike="noStrike">
                <a:solidFill>
                  <a:srgbClr val="009bcc"/>
                </a:solidFill>
                <a:latin typeface="Arial Narrow"/>
              </a:rPr>
              <a:t>Fixed rig</a:t>
            </a:r>
            <a:endParaRPr b="1" lang="en-US" sz="3000" spc="-1" strike="noStrike">
              <a:solidFill>
                <a:srgbClr val="009bcc"/>
              </a:solidFill>
              <a:latin typeface="Arial Narrow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-360" y="1439640"/>
            <a:ext cx="9906120" cy="4679640"/>
          </a:xfrm>
          <a:prstGeom prst="rect">
            <a:avLst/>
          </a:prstGeom>
          <a:noFill/>
          <a:ln w="0">
            <a:noFill/>
          </a:ln>
        </p:spPr>
        <p:txBody>
          <a:bodyPr lIns="288000" rIns="72000" tIns="36000" bIns="360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Name: fixedRi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Type: logicalBoo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minOccurs: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maxOccurs: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Description: Indicates if a rig is fixed or n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Example input value: tr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Example output value: 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Footer Placeholder 3"/>
          <p:cNvSpPr/>
          <p:nvPr/>
        </p:nvSpPr>
        <p:spPr>
          <a:xfrm>
            <a:off x="8637840" y="6555240"/>
            <a:ext cx="1255320" cy="1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Insert "Title, Author, Dat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Slide Number Placeholder 4"/>
          <p:cNvSpPr/>
          <p:nvPr/>
        </p:nvSpPr>
        <p:spPr>
          <a:xfrm>
            <a:off x="9505440" y="6733080"/>
            <a:ext cx="536040" cy="1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CCFF1-9130-425F-B27F-2C43B1AAD4F1}" type="slidenum"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Date Placeholder 5"/>
          <p:cNvSpPr/>
          <p:nvPr/>
        </p:nvSpPr>
        <p:spPr>
          <a:xfrm>
            <a:off x="6788160" y="6692760"/>
            <a:ext cx="287964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© 2010 Capgemini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1187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252000" bIns="36000" anchor="ctr">
            <a:noAutofit/>
          </a:bodyPr>
          <a:p>
            <a:pPr marL="7142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000" spc="-1" strike="noStrike">
                <a:solidFill>
                  <a:srgbClr val="009bcc"/>
                </a:solidFill>
                <a:latin typeface="Arial Narrow"/>
              </a:rPr>
              <a:t>Water depth</a:t>
            </a:r>
            <a:endParaRPr b="1" lang="en-US" sz="3000" spc="-1" strike="noStrike">
              <a:solidFill>
                <a:srgbClr val="009bcc"/>
              </a:solidFill>
              <a:latin typeface="Arial Narrow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-360" y="1439640"/>
            <a:ext cx="9906120" cy="4679640"/>
          </a:xfrm>
          <a:prstGeom prst="rect">
            <a:avLst/>
          </a:prstGeom>
          <a:noFill/>
          <a:ln w="0">
            <a:noFill/>
          </a:ln>
        </p:spPr>
        <p:txBody>
          <a:bodyPr lIns="288000" rIns="72000" tIns="36000" bIns="360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Name: waterDep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Type: lengthMeasureMet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minOccurs: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maxOccurs: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Description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ter depth in Mean sea level (m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Example input value: 1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bcc"/>
              </a:buClr>
              <a:buFont typeface="Wingdings" charset="2"/>
              <a:buChar char="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Example output value: 1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Footer Placeholder 3"/>
          <p:cNvSpPr/>
          <p:nvPr/>
        </p:nvSpPr>
        <p:spPr>
          <a:xfrm>
            <a:off x="8637840" y="6555240"/>
            <a:ext cx="1255320" cy="1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Insert "Title, Author, Dat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Slide Number Placeholder 4"/>
          <p:cNvSpPr/>
          <p:nvPr/>
        </p:nvSpPr>
        <p:spPr>
          <a:xfrm>
            <a:off x="9505440" y="6733080"/>
            <a:ext cx="536040" cy="1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CC0BD-E2B8-4D0D-86BC-76FA588B4251}" type="slidenum"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Date Placeholder 5"/>
          <p:cNvSpPr/>
          <p:nvPr/>
        </p:nvSpPr>
        <p:spPr>
          <a:xfrm>
            <a:off x="6788160" y="6692760"/>
            <a:ext cx="287964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© 2010 Capgemini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3T10:29:36Z</dcterms:created>
  <dc:creator>Yao Bo Lu</dc:creator>
  <dc:description/>
  <dc:language>en-US</dc:language>
  <cp:lastModifiedBy>Lillian Hella</cp:lastModifiedBy>
  <dcterms:modified xsi:type="dcterms:W3CDTF">2011-05-24T14:37:24Z</dcterms:modified>
  <cp:revision>284</cp:revision>
  <dc:subject/>
  <dc:title>Daily Drilling Report 1.2.0 Elements</dc:title>
</cp:coreProperties>
</file>