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nb-NO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Trebuchet MS"/>
              </a:rPr>
              <a:t>Click to move the slide</a:t>
            </a:r>
            <a:endParaRPr b="1" lang="en-US" sz="2800" spc="-1" strike="noStrike">
              <a:solidFill>
                <a:srgbClr val="0099cc"/>
              </a:solidFill>
              <a:latin typeface="Trebuchet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nb-NO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nb-NO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8691087-8258-4B97-A323-EB09D8A1A0DB}" type="slidenum">
              <a:rPr b="0" lang="nb-NO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95DB20B-0ED0-4B1D-A5A5-61AE59371D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Times New Roman"/>
              </a:rPr>
              <a:t>Formater for hvordan skrive dataene for overfø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6920" y="980640"/>
            <a:ext cx="685800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915920"/>
            <a:ext cx="6858000" cy="21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4218480"/>
            <a:ext cx="6858000" cy="21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6920" y="980640"/>
            <a:ext cx="685800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15920"/>
            <a:ext cx="3346560" cy="21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276440" y="1915920"/>
            <a:ext cx="3346560" cy="21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4218480"/>
            <a:ext cx="3346560" cy="21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276440" y="4218480"/>
            <a:ext cx="3346560" cy="21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6920" y="980640"/>
            <a:ext cx="685800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915920"/>
            <a:ext cx="2207880" cy="21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80880" y="1915920"/>
            <a:ext cx="2207880" cy="21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399280" y="1915920"/>
            <a:ext cx="2207880" cy="21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4218480"/>
            <a:ext cx="2207880" cy="21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80880" y="4218480"/>
            <a:ext cx="2207880" cy="21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399280" y="4218480"/>
            <a:ext cx="2207880" cy="21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6920" y="980640"/>
            <a:ext cx="685800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1915920"/>
            <a:ext cx="6858000" cy="44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6920" y="980640"/>
            <a:ext cx="685800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915920"/>
            <a:ext cx="6858000" cy="44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6920" y="980640"/>
            <a:ext cx="685800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915920"/>
            <a:ext cx="3346560" cy="44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276440" y="1915920"/>
            <a:ext cx="3346560" cy="44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6920" y="980640"/>
            <a:ext cx="685800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Trebuchet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6920" y="980640"/>
            <a:ext cx="68580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6920" y="980640"/>
            <a:ext cx="685800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915920"/>
            <a:ext cx="3346560" cy="21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276440" y="1915920"/>
            <a:ext cx="3346560" cy="44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4218480"/>
            <a:ext cx="3346560" cy="21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6920" y="980640"/>
            <a:ext cx="685800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915920"/>
            <a:ext cx="3346560" cy="44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276440" y="1915920"/>
            <a:ext cx="3346560" cy="21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276440" y="4218480"/>
            <a:ext cx="3346560" cy="21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6920" y="980640"/>
            <a:ext cx="685800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915920"/>
            <a:ext cx="3346560" cy="21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276440" y="1915920"/>
            <a:ext cx="3346560" cy="21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4218480"/>
            <a:ext cx="6858000" cy="21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47520"/>
            <a:ext cx="9144000" cy="1629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26920" y="980640"/>
            <a:ext cx="685800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Trebuchet MS"/>
              </a:rPr>
              <a:t>Click to edit the title text format</a:t>
            </a:r>
            <a:endParaRPr b="1" lang="en-US" sz="2800" spc="-1" strike="noStrike">
              <a:solidFill>
                <a:srgbClr val="0099cc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62120" y="1915920"/>
            <a:ext cx="6858000" cy="44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7dc337"/>
              </a:buClr>
              <a:buSzPct val="12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0031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buClr>
                <a:srgbClr val="00315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buClr>
                <a:srgbClr val="003159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1349"/>
              </a:spcBef>
              <a:buClr>
                <a:srgbClr val="00315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13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13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6767640"/>
            <a:ext cx="9144000" cy="90360"/>
          </a:xfrm>
          <a:prstGeom prst="rect">
            <a:avLst/>
          </a:prstGeom>
          <a:solidFill>
            <a:srgbClr val="0031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9144000" cy="90360"/>
          </a:xfrm>
          <a:prstGeom prst="rect">
            <a:avLst/>
          </a:prstGeom>
          <a:solidFill>
            <a:srgbClr val="0031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drilling.posccaesar.org/svn/projects/DailyDrillingReport_1.2/XML/HTMLreport/testDocumet_2011_02_07.xml" TargetMode="External"/><Relationship Id="rId2" Type="http://schemas.openxmlformats.org/officeDocument/2006/relationships/hyperlink" Target="http://drilling.posccaesar.org/svn/projects/DailyDrillingReport_1.2/XML/PDFreport/testDocumet_2011_04_07.pdf" TargetMode="Externa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928880"/>
            <a:ext cx="7772400" cy="17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99cc"/>
                </a:solidFill>
                <a:latin typeface="Trebuchet MS"/>
              </a:rPr>
              <a:t>DDR version 1.2</a:t>
            </a:r>
            <a:br>
              <a:rPr sz="3600"/>
            </a:br>
            <a:r>
              <a:rPr b="1" lang="en-GB" sz="2400" spc="-1" strike="noStrike">
                <a:solidFill>
                  <a:srgbClr val="0099cc"/>
                </a:solidFill>
                <a:latin typeface="Trebuchet MS"/>
              </a:rPr>
              <a:t>Project meeting - Web</a:t>
            </a:r>
            <a:endParaRPr b="1" lang="en-US" sz="2400" spc="-1" strike="noStrike">
              <a:solidFill>
                <a:srgbClr val="0099cc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4495680"/>
            <a:ext cx="5918400" cy="132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4d4d4d"/>
                </a:solidFill>
                <a:latin typeface="Arial"/>
              </a:rPr>
              <a:t>10.05.2011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Lillian Hella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POSC Caesar Association (PCA)</a:t>
            </a:r>
            <a:endParaRPr b="1" lang="en-US" sz="1400" spc="-1" strike="noStrike">
              <a:solidFill>
                <a:srgbClr val="4d4d4d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lillian.hella@posccaesar.org</a:t>
            </a:r>
            <a:endParaRPr b="1" lang="en-US" sz="1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6920" y="980640"/>
            <a:ext cx="685800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800" spc="-1" strike="noStrike">
                <a:solidFill>
                  <a:srgbClr val="0099cc"/>
                </a:solidFill>
                <a:latin typeface="Trebuchet MS"/>
              </a:rPr>
              <a:t>Agenda</a:t>
            </a:r>
            <a:endParaRPr b="1" lang="en-US" sz="2800" spc="-1" strike="noStrike">
              <a:solidFill>
                <a:srgbClr val="0099cc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1915920"/>
            <a:ext cx="6858000" cy="44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7dc337"/>
              </a:buClr>
              <a:buSzPct val="12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4d4d4d"/>
                </a:solidFill>
                <a:latin typeface="Arial"/>
              </a:rPr>
              <a:t>Approval of agenda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7dc337"/>
              </a:buClr>
              <a:buSzPct val="12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4d4d4d"/>
                </a:solidFill>
                <a:latin typeface="Arial"/>
              </a:rPr>
              <a:t>Approval of Minutes of Meeting from last meeting and informal meeting last week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7dc337"/>
              </a:buClr>
              <a:buSzPct val="12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4d4d4d"/>
                </a:solidFill>
                <a:latin typeface="Arial"/>
              </a:rPr>
              <a:t>Modelling of reference data – status + clearification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7dc337"/>
              </a:buClr>
              <a:buSzPct val="12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4d4d4d"/>
                </a:solidFill>
                <a:latin typeface="Arial"/>
              </a:rPr>
              <a:t>XML Schema and HTML/PDF example report – status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7dc337"/>
              </a:buClr>
              <a:buSzPct val="12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4d4d4d"/>
                </a:solidFill>
                <a:latin typeface="Arial"/>
              </a:rPr>
              <a:t>Planning of review of reference data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7dc337"/>
              </a:buClr>
              <a:buSzPct val="12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4d4d4d"/>
                </a:solidFill>
                <a:latin typeface="Arial"/>
              </a:rPr>
              <a:t>Pilot planning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7dc337"/>
              </a:buClr>
              <a:buSzPct val="12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Next meeting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7dc337"/>
              </a:buClr>
              <a:buSzPct val="12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AOB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6920" y="980640"/>
            <a:ext cx="685800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800" spc="-1" strike="noStrike">
                <a:solidFill>
                  <a:srgbClr val="0099cc"/>
                </a:solidFill>
                <a:latin typeface="Trebuchet MS"/>
              </a:rPr>
              <a:t>Clearification</a:t>
            </a:r>
            <a:endParaRPr b="1" lang="en-US" sz="2800" spc="-1" strike="noStrike">
              <a:solidFill>
                <a:srgbClr val="0099cc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2120" y="1915920"/>
            <a:ext cx="6858000" cy="44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7dc337"/>
              </a:buClr>
              <a:buSzPct val="12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Is information about Dull grade for a bit reported at end of reporting period or at end of run?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6920" y="980640"/>
            <a:ext cx="685800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99cc"/>
                </a:solidFill>
                <a:latin typeface="Trebuchet MS"/>
              </a:rPr>
              <a:t>Html and pdf report</a:t>
            </a:r>
            <a:endParaRPr b="1" lang="en-US" sz="2800" spc="-1" strike="noStrike">
              <a:solidFill>
                <a:srgbClr val="0099cc"/>
              </a:solidFill>
              <a:latin typeface="Trebuchet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15920"/>
            <a:ext cx="6858000" cy="44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7dc337"/>
              </a:buClr>
              <a:buSzPct val="12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ml example report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7dc337"/>
              </a:buClr>
              <a:buSzPct val="12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pdf report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6920" y="980640"/>
            <a:ext cx="685800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800" spc="-1" strike="noStrike">
                <a:solidFill>
                  <a:srgbClr val="0099cc"/>
                </a:solidFill>
                <a:latin typeface="Trebuchet MS"/>
              </a:rPr>
              <a:t>Planning of review of reference data</a:t>
            </a:r>
            <a:endParaRPr b="1" lang="en-US" sz="2800" spc="-1" strike="noStrike">
              <a:solidFill>
                <a:srgbClr val="0099cc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15920"/>
            <a:ext cx="6858000" cy="44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7dc337"/>
              </a:buClr>
              <a:buSzPct val="12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Approach: Send out material in advance (minimum one week before meeting) and end with physical meeting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7dc337"/>
              </a:buClr>
              <a:buSzPct val="12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To confirm that the new elements for next version of DDR are defined correctly and used in the right way – also in relation to what the DDR XML Schema contains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7dc337"/>
              </a:buClr>
              <a:buSzPct val="12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Review meeting (proposed as part of EPIM Reporting Forum May 31st)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26920" y="980640"/>
            <a:ext cx="685800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800" spc="-1" strike="noStrike">
                <a:solidFill>
                  <a:srgbClr val="0099cc"/>
                </a:solidFill>
                <a:latin typeface="Trebuchet MS"/>
              </a:rPr>
              <a:t>Agenda</a:t>
            </a:r>
            <a:endParaRPr b="1" lang="en-US" sz="2800" spc="-1" strike="noStrike">
              <a:solidFill>
                <a:srgbClr val="0099cc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62120" y="1915920"/>
            <a:ext cx="6858000" cy="44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7dc337"/>
              </a:buClr>
              <a:buSzPct val="12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4d4d4d"/>
                </a:solidFill>
                <a:latin typeface="Arial"/>
              </a:rPr>
              <a:t>Approval of agenda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7dc337"/>
              </a:buClr>
              <a:buSzPct val="12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4d4d4d"/>
                </a:solidFill>
                <a:latin typeface="Arial"/>
              </a:rPr>
              <a:t>Approval of Minutes of Meeting from last meeting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7dc337"/>
              </a:buClr>
              <a:buSzPct val="12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4d4d4d"/>
                </a:solidFill>
                <a:latin typeface="Arial"/>
              </a:rPr>
              <a:t>Modelling of reference data – status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7dc337"/>
              </a:buClr>
              <a:buSzPct val="12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4d4d4d"/>
                </a:solidFill>
                <a:latin typeface="Arial"/>
              </a:rPr>
              <a:t>XML Schema and HTML/PDF example report – status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7dc337"/>
              </a:buClr>
              <a:buSzPct val="12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4d4d4d"/>
                </a:solidFill>
                <a:latin typeface="Arial"/>
              </a:rPr>
              <a:t>Planning of review of reference data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7dc337"/>
              </a:buClr>
              <a:buSzPct val="12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4d4d4d"/>
                </a:solidFill>
                <a:latin typeface="Arial"/>
              </a:rPr>
              <a:t>Pilot planning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7dc337"/>
              </a:buClr>
              <a:buSzPct val="12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Next meeting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7dc337"/>
              </a:buClr>
              <a:buSzPct val="12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AOB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6T15:30:25Z</dcterms:created>
  <dc:creator>Ruilin</dc:creator>
  <dc:description/>
  <dc:language>en-US</dc:language>
  <cp:lastModifiedBy>Lillian Hella</cp:lastModifiedBy>
  <dcterms:modified xsi:type="dcterms:W3CDTF">2011-05-09T20:22:17Z</dcterms:modified>
  <cp:revision>229</cp:revision>
  <dc:subject/>
  <dc:title>PowerPoint Presentation</dc:title>
</cp:coreProperties>
</file>