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E6B3-5301-4458-B57C-DF9C2089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10B7-B4EB-4693-AF75-FB8A7E1B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C1A6-6373-4BD9-B402-68334152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09B4-A038-46DD-A809-00B7AFCB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90B0-3BC2-40DF-B8A7-E0ADD9F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BDD6-21CD-47FD-A85B-54CDEF9D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0231-22E4-4E07-B1F7-6065011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70C7C-5B5C-4F9E-9B4B-E3C8C743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E830-3B37-4D83-AE0A-ED2C072D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7A81-AA96-4F5F-A88C-AF292C8F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44001-C529-4EDB-B643-9745495F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698E4-5EF5-4E49-B156-999ABF96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FA29-39B7-40FF-BFD0-420BF64C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91B21-6469-4CF8-82FC-ECA899C7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AE30B-271E-44DA-A9C1-9AD3749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AA953-C809-4D10-AE1B-B8FFB5E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1223D-C945-42F2-870D-CE54CDD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EBE8-B869-4962-949F-96038359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EDE8B-67E8-416A-ABF1-B67B6AD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5720-23E7-4CF8-B54C-9EF545D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83875-E5BB-474C-A1A3-2ECF37F3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5ABD-DB23-48AC-A324-819478A4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CFF8-AC87-4AE0-B341-CB7D6BE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5AB7-FD3B-4F37-9CF5-18F5AE4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8267040" y="6305400"/>
            <a:ext cx="157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72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 Sector, Alliance, Off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OK_Capgemini"/>
          <p:cNvPicPr/>
          <p:nvPr/>
        </p:nvPicPr>
        <p:blipFill>
          <a:blip r:embed="rId2"/>
          <a:stretch/>
        </p:blipFill>
        <p:spPr>
          <a:xfrm>
            <a:off x="212760" y="6381720"/>
            <a:ext cx="1558800" cy="33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8632440" y="6554520"/>
            <a:ext cx="126540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9646920" y="6732360"/>
            <a:ext cx="25236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A04F-406A-41A7-8CC6-DB554697C1C3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7920" y="6286680"/>
            <a:ext cx="9907560" cy="17280"/>
          </a:xfrm>
          <a:prstGeom prst="rect">
            <a:avLst/>
          </a:prstGeom>
          <a:gradFill rotWithShape="0">
            <a:gsLst>
              <a:gs pos="0">
                <a:srgbClr val="c6e9f4"/>
              </a:gs>
              <a:gs pos="100000">
                <a:srgbClr val="009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3"/>
          </p:nvPr>
        </p:nvSpPr>
        <p:spPr>
          <a:xfrm>
            <a:off x="6787800" y="6692400"/>
            <a:ext cx="287964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25"/>
          <p:cNvGrpSpPr/>
          <p:nvPr/>
        </p:nvGrpSpPr>
        <p:grpSpPr>
          <a:xfrm>
            <a:off x="-7920" y="0"/>
            <a:ext cx="3457440" cy="1235160"/>
            <a:chOff x="-7920" y="0"/>
            <a:chExt cx="3457440" cy="1235160"/>
          </a:xfrm>
        </p:grpSpPr>
        <p:grpSp>
          <p:nvGrpSpPr>
            <p:cNvPr id="8" name="Freeform 23"/>
            <p:cNvGrpSpPr/>
            <p:nvPr/>
          </p:nvGrpSpPr>
          <p:grpSpPr>
            <a:xfrm>
              <a:off x="-7920" y="0"/>
              <a:ext cx="3457440" cy="1235160"/>
              <a:chOff x="-7920" y="0"/>
              <a:chExt cx="3457440" cy="1235160"/>
            </a:xfrm>
          </p:grpSpPr>
          <p:pic>
            <p:nvPicPr>
              <p:cNvPr id="9" name="Freeform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0"/>
                <a:ext cx="345744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>
                <a:off x="48960" y="33120"/>
                <a:ext cx="3346560" cy="11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" name="Image 27" descr="CBE_Label_pptCorner.png"/>
            <p:cNvPicPr/>
            <p:nvPr/>
          </p:nvPicPr>
          <p:blipFill>
            <a:blip r:embed="rId4"/>
            <a:stretch/>
          </p:blipFill>
          <p:spPr>
            <a:xfrm>
              <a:off x="204120" y="141840"/>
              <a:ext cx="507240" cy="47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Freeform 7"/>
          <p:cNvGrpSpPr/>
          <p:nvPr/>
        </p:nvGrpSpPr>
        <p:grpSpPr>
          <a:xfrm>
            <a:off x="-60480" y="-36360"/>
            <a:ext cx="10045800" cy="7016760"/>
            <a:chOff x="-60480" y="-36360"/>
            <a:chExt cx="10045800" cy="7016760"/>
          </a:xfrm>
        </p:grpSpPr>
        <p:pic>
          <p:nvPicPr>
            <p:cNvPr id="382" name="Freeform 7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0" y="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9" descr="ppt_ExpertsMosaic_Color.jpg"/>
          <p:cNvPicPr/>
          <p:nvPr/>
        </p:nvPicPr>
        <p:blipFill>
          <a:blip r:embed="rId2"/>
          <a:srcRect l="0" t="19318" r="0" b="0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grpSp>
        <p:nvGrpSpPr>
          <p:cNvPr id="86" name="Freeform 30"/>
          <p:cNvGrpSpPr/>
          <p:nvPr/>
        </p:nvGrpSpPr>
        <p:grpSpPr>
          <a:xfrm>
            <a:off x="-79200" y="1206360"/>
            <a:ext cx="10040760" cy="5736960"/>
            <a:chOff x="-79200" y="1206360"/>
            <a:chExt cx="10040760" cy="5736960"/>
          </a:xfrm>
        </p:grpSpPr>
        <p:pic>
          <p:nvPicPr>
            <p:cNvPr id="87" name="Freeform 30" descr=""/>
            <p:cNvPicPr/>
            <p:nvPr/>
          </p:nvPicPr>
          <p:blipFill>
            <a:blip r:embed="rId3"/>
            <a:stretch/>
          </p:blipFill>
          <p:spPr>
            <a:xfrm>
              <a:off x="-79200" y="1265760"/>
              <a:ext cx="10040760" cy="56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15840" y="1206360"/>
              <a:ext cx="9921960" cy="56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6" descr="OK_Capgemini"/>
          <p:cNvPicPr/>
          <p:nvPr/>
        </p:nvPicPr>
        <p:blipFill>
          <a:blip r:embed="rId4"/>
          <a:stretch/>
        </p:blipFill>
        <p:spPr>
          <a:xfrm>
            <a:off x="328680" y="368280"/>
            <a:ext cx="215892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Capgemini_Slogan_RGB.png"/>
          <p:cNvPicPr/>
          <p:nvPr/>
        </p:nvPicPr>
        <p:blipFill>
          <a:blip r:embed="rId5"/>
          <a:stretch/>
        </p:blipFill>
        <p:spPr>
          <a:xfrm>
            <a:off x="6164280" y="372960"/>
            <a:ext cx="348300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10" descr="ppt_KeyWords_Bkgd_OK.jpg"/>
          <p:cNvPicPr/>
          <p:nvPr/>
        </p:nvPicPr>
        <p:blipFill>
          <a:blip r:embed="rId2"/>
          <a:srcRect l="0" t="0" r="0" b="20412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grpSp>
        <p:nvGrpSpPr>
          <p:cNvPr id="130" name="Freeform 30"/>
          <p:cNvGrpSpPr/>
          <p:nvPr/>
        </p:nvGrpSpPr>
        <p:grpSpPr>
          <a:xfrm>
            <a:off x="-79200" y="1206360"/>
            <a:ext cx="10040760" cy="5736960"/>
            <a:chOff x="-79200" y="1206360"/>
            <a:chExt cx="10040760" cy="5736960"/>
          </a:xfrm>
        </p:grpSpPr>
        <p:pic>
          <p:nvPicPr>
            <p:cNvPr id="131" name="Freeform 30" descr=""/>
            <p:cNvPicPr/>
            <p:nvPr/>
          </p:nvPicPr>
          <p:blipFill>
            <a:blip r:embed="rId3"/>
            <a:stretch/>
          </p:blipFill>
          <p:spPr>
            <a:xfrm>
              <a:off x="-79200" y="1265760"/>
              <a:ext cx="10040760" cy="56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-15840" y="1206360"/>
              <a:ext cx="9921960" cy="56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6" descr="OK_Capgemini"/>
          <p:cNvPicPr/>
          <p:nvPr/>
        </p:nvPicPr>
        <p:blipFill>
          <a:blip r:embed="rId4"/>
          <a:stretch/>
        </p:blipFill>
        <p:spPr>
          <a:xfrm>
            <a:off x="328680" y="368280"/>
            <a:ext cx="2158920" cy="5097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9" descr="Capgemini_Slogan_RGB.png"/>
          <p:cNvPicPr/>
          <p:nvPr/>
        </p:nvPicPr>
        <p:blipFill>
          <a:blip r:embed="rId5"/>
          <a:stretch/>
        </p:blipFill>
        <p:spPr>
          <a:xfrm>
            <a:off x="6164280" y="372960"/>
            <a:ext cx="3483000" cy="360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2" descr="OK_Capgemini"/>
          <p:cNvPicPr/>
          <p:nvPr/>
        </p:nvPicPr>
        <p:blipFill>
          <a:blip r:embed="rId2"/>
          <a:stretch/>
        </p:blipFill>
        <p:spPr>
          <a:xfrm>
            <a:off x="220680" y="6381720"/>
            <a:ext cx="1558800" cy="339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6"/>
          <p:cNvSpPr/>
          <p:nvPr/>
        </p:nvSpPr>
        <p:spPr>
          <a:xfrm>
            <a:off x="0" y="6286680"/>
            <a:ext cx="9907560" cy="17280"/>
          </a:xfrm>
          <a:prstGeom prst="rect">
            <a:avLst/>
          </a:prstGeom>
          <a:gradFill rotWithShape="0">
            <a:gsLst>
              <a:gs pos="0">
                <a:srgbClr val="c6e9f4"/>
              </a:gs>
              <a:gs pos="100000">
                <a:srgbClr val="009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Freeform 23"/>
          <p:cNvGrpSpPr/>
          <p:nvPr/>
        </p:nvGrpSpPr>
        <p:grpSpPr>
          <a:xfrm>
            <a:off x="-60480" y="-36360"/>
            <a:ext cx="3571920" cy="1358640"/>
            <a:chOff x="-60480" y="-36360"/>
            <a:chExt cx="3571920" cy="1358640"/>
          </a:xfrm>
        </p:grpSpPr>
        <p:pic>
          <p:nvPicPr>
            <p:cNvPr id="176" name="Freeform 23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35719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3457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1"/>
          <p:cNvSpPr/>
          <p:nvPr/>
        </p:nvSpPr>
        <p:spPr>
          <a:xfrm>
            <a:off x="8274960" y="6305400"/>
            <a:ext cx="157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72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 Sector, Alliance, Off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4"/>
          </p:nvPr>
        </p:nvSpPr>
        <p:spPr>
          <a:xfrm>
            <a:off x="8632440" y="6554520"/>
            <a:ext cx="126540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5"/>
          </p:nvPr>
        </p:nvSpPr>
        <p:spPr>
          <a:xfrm>
            <a:off x="9646920" y="6732360"/>
            <a:ext cx="25236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FEC-8E4C-4897-BE57-E184CC553715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6"/>
          </p:nvPr>
        </p:nvSpPr>
        <p:spPr>
          <a:xfrm>
            <a:off x="6787800" y="6692400"/>
            <a:ext cx="287964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Freeform 7"/>
          <p:cNvGrpSpPr/>
          <p:nvPr/>
        </p:nvGrpSpPr>
        <p:grpSpPr>
          <a:xfrm>
            <a:off x="-60480" y="-73080"/>
            <a:ext cx="10045800" cy="7016760"/>
            <a:chOff x="-60480" y="-73080"/>
            <a:chExt cx="10045800" cy="7016760"/>
          </a:xfrm>
        </p:grpSpPr>
        <p:pic>
          <p:nvPicPr>
            <p:cNvPr id="259" name="Freeform 7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-3816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Freeform 7"/>
          <p:cNvGrpSpPr/>
          <p:nvPr/>
        </p:nvGrpSpPr>
        <p:grpSpPr>
          <a:xfrm>
            <a:off x="-60480" y="-73080"/>
            <a:ext cx="10045800" cy="7016760"/>
            <a:chOff x="-60480" y="-73080"/>
            <a:chExt cx="10045800" cy="7016760"/>
          </a:xfrm>
        </p:grpSpPr>
        <p:pic>
          <p:nvPicPr>
            <p:cNvPr id="298" name="Freeform 7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-3816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8"/>
          <p:cNvSpPr/>
          <p:nvPr/>
        </p:nvSpPr>
        <p:spPr>
          <a:xfrm>
            <a:off x="7512120" y="5376960"/>
            <a:ext cx="23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0" tIns="0" bIns="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capgemin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OK_Capgemini"/>
          <p:cNvPicPr/>
          <p:nvPr/>
        </p:nvPicPr>
        <p:blipFill>
          <a:blip r:embed="rId3"/>
          <a:stretch/>
        </p:blipFill>
        <p:spPr>
          <a:xfrm>
            <a:off x="1004760" y="922320"/>
            <a:ext cx="4676760" cy="1017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0" y="6600240"/>
            <a:ext cx="990612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0" bIns="180000" anchor="b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The information contained in this presentation is proprietary. ©2010 Capgemini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age 8" descr="Capgemini_Slogan_White.png"/>
          <p:cNvPicPr/>
          <p:nvPr/>
        </p:nvPicPr>
        <p:blipFill>
          <a:blip r:embed="rId4"/>
          <a:stretch/>
        </p:blipFill>
        <p:spPr>
          <a:xfrm>
            <a:off x="5816520" y="4856040"/>
            <a:ext cx="3803760" cy="39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Freeform 7"/>
          <p:cNvGrpSpPr/>
          <p:nvPr/>
        </p:nvGrpSpPr>
        <p:grpSpPr>
          <a:xfrm>
            <a:off x="-60480" y="-73080"/>
            <a:ext cx="10045800" cy="7016760"/>
            <a:chOff x="-60480" y="-73080"/>
            <a:chExt cx="10045800" cy="7016760"/>
          </a:xfrm>
        </p:grpSpPr>
        <p:pic>
          <p:nvPicPr>
            <p:cNvPr id="343" name="Freeform 7" descr=""/>
            <p:cNvPicPr/>
            <p:nvPr/>
          </p:nvPicPr>
          <p:blipFill>
            <a:blip r:embed="rId3"/>
            <a:stretch/>
          </p:blipFill>
          <p:spPr>
            <a:xfrm>
              <a:off x="-60480" y="-7308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-3816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0" y="2801520"/>
            <a:ext cx="5294160" cy="792360"/>
          </a:xfrm>
          <a:prstGeom prst="rect">
            <a:avLst/>
          </a:prstGeom>
          <a:noFill/>
          <a:ln w="0">
            <a:noFill/>
          </a:ln>
        </p:spPr>
        <p:txBody>
          <a:bodyPr lIns="324000" rIns="0" tIns="180000" bIns="36000" anchor="t">
            <a:noAutofit/>
          </a:bodyPr>
          <a:p>
            <a:pPr marL="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 Narrow"/>
              </a:rPr>
              <a:t>Yao Bo 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avanger, 11.05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-360" y="1239840"/>
            <a:ext cx="9906120" cy="1512720"/>
          </a:xfrm>
          <a:prstGeom prst="rect">
            <a:avLst/>
          </a:prstGeom>
          <a:noFill/>
          <a:ln w="0">
            <a:noFill/>
          </a:ln>
        </p:spPr>
        <p:txBody>
          <a:bodyPr lIns="324000" rIns="36000" tIns="432000" bIns="36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2f0ff"/>
                </a:solidFill>
                <a:latin typeface="Arial Narrow"/>
              </a:rPr>
              <a:t>Daily Drilling Report 1.2.0 Elements</a:t>
            </a:r>
            <a:endParaRPr b="1" lang="en-US" sz="3600" spc="-1" strike="noStrike">
              <a:solidFill>
                <a:srgbClr val="009b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erio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-06-06 00:00 - 2006-06-06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6FC-17E9-46F1-930B-449458BFD56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Oper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468" name="Content Placeholder 6" descr="operation.png"/>
          <p:cNvPicPr/>
          <p:nvPr/>
        </p:nvPicPr>
        <p:blipFill>
          <a:blip r:embed="rId1"/>
          <a:stretch/>
        </p:blipFill>
        <p:spPr>
          <a:xfrm>
            <a:off x="1257480" y="3122640"/>
            <a:ext cx="7391160" cy="1314360"/>
          </a:xfrm>
          <a:prstGeom prst="rect">
            <a:avLst/>
          </a:prstGeom>
          <a:ln w="0">
            <a:noFill/>
          </a:ln>
        </p:spPr>
      </p:pic>
      <p:sp>
        <p:nvSpPr>
          <p:cNvPr id="469" name="Footer Placeholder 3"/>
          <p:cNvSpPr/>
          <p:nvPr/>
        </p:nvSpPr>
        <p:spPr>
          <a:xfrm>
            <a:off x="705924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5145-5857-42D9-91D4-AD70983F031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Start 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Hole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sured depth at start of the activity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480-3A5D-444C-A41C-BDB44B294E2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End 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sured depth at end of the activity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136E-6546-4B37-B8A7-53437C5BC56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6EDB-9857-46F6-B42D-3CFA46DCE45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ain - Sub Activity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roprietary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ActivityCodeN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sured depth at end of the activity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ing -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ing -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3277-0CAC-443F-9C0D-92767FA8142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Stat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ainActivity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, interrupted, fail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4AE-197B-4FBA-88CC-3EFF3FCF9CC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Bit </a:t>
            </a: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recor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98" name="Footer Placeholder 3"/>
          <p:cNvSpPr/>
          <p:nvPr/>
        </p:nvSpPr>
        <p:spPr>
          <a:xfrm>
            <a:off x="709560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D5D2-83E5-467E-BAE3-61794813872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Content Placeholder 8" descr="bitrecord.png"/>
          <p:cNvPicPr/>
          <p:nvPr/>
        </p:nvPicPr>
        <p:blipFill>
          <a:blip r:embed="rId1"/>
          <a:stretch/>
        </p:blipFill>
        <p:spPr>
          <a:xfrm>
            <a:off x="344520" y="2998800"/>
            <a:ext cx="9217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ours drill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mOp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ime spent by bit during the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A3F5-ACA8-4AD3-A486-B282C971DAF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D Star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Hole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depth at start of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F63-2600-4647-BCB8-9B05624CEC1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ead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423" name="Content Placeholder 6" descr="header.png"/>
          <p:cNvPicPr/>
          <p:nvPr/>
        </p:nvPicPr>
        <p:blipFill>
          <a:blip r:embed="rId1"/>
          <a:stretch/>
        </p:blipFill>
        <p:spPr>
          <a:xfrm>
            <a:off x="304920" y="1798560"/>
            <a:ext cx="9296280" cy="396252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pied de page 3"/>
          <p:cNvSpPr/>
          <p:nvPr/>
        </p:nvSpPr>
        <p:spPr>
          <a:xfrm>
            <a:off x="709560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Espace réservé du numéro de diapositive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80A-DF31-4C3A-82F2-EC20887B8B2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e la date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D en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Hole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depth at end of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9E0-493B-44B8-AB23-E67CD93C2BC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ull grad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ull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t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, interrupted, fail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/NO/A/X/I/NO/D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/NO/A/X/I/NO/D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521D-FBA6-44F2-A9C7-2FE176174754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ole Made (Last 24H)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9D3-F137-453B-9777-8E3D69B2C5B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ours drilled (Last 24H)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nOp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ime spent by bit during the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52F-6B48-476D-A40D-87B24B00C02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OP (Last 24H)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op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elocityMeasureMetresPer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ate of penetration through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2CFF-F91E-4567-BE81-8C434C4AA4D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tal Hole Mad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TotHole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Measured depth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72E5-56B1-48C0-97B2-46947B8A415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tal hours drill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otHrsDr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Hours of drilling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C1D9-55DE-44D0-BD85-7703C4CEAD3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tal ROP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ot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elocityMeasureMetresPer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Rate of penetration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B05-2D44-49E5-859E-56B98E31DBD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asing/Liner/Tubing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553" name="Content Placeholder 6" descr="casinglinertubing.png"/>
          <p:cNvPicPr/>
          <p:nvPr/>
        </p:nvPicPr>
        <p:blipFill>
          <a:blip r:embed="rId1"/>
          <a:stretch/>
        </p:blipFill>
        <p:spPr>
          <a:xfrm>
            <a:off x="2252520" y="2960640"/>
            <a:ext cx="5400720" cy="1638360"/>
          </a:xfrm>
          <a:prstGeom prst="rect">
            <a:avLst/>
          </a:prstGeom>
          <a:ln w="0">
            <a:noFill/>
          </a:ln>
        </p:spPr>
      </p:pic>
      <p:sp>
        <p:nvSpPr>
          <p:cNvPr id="554" name="Footer Placeholder 3"/>
          <p:cNvSpPr/>
          <p:nvPr/>
        </p:nvSpPr>
        <p:spPr>
          <a:xfrm>
            <a:off x="709560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2F9-58D2-4953-AC51-76FC6B2A32D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ype of pi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ubular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tubular (e.g., casing, tubing, liner, packer, open hole, oth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c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C05A-F544-4ECB-BDFD-A1E494BA2DC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eport No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por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positive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Sequence number of daily drilli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AD86-BADA-4429-91AE-88992936640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outside diame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side diameter of the tubular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6E1F-DB4E-45DA-852D-18943445F77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inside diame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ide diameter of the tubular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F3D4-7BE5-41A6-B675-736A5584B95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Weigh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assPerLengthMeasurePoundsMassPer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ight per length of the tub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904E-0565-4011-A176-C9AF6736189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Grad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t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'code string class' that is representing members of 'API 5CT 7th. edition grade clas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039-C426-467F-BB73-1F15D40F5DC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Connec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t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'code string class' that is a standardrised set of strings used in a 'daily drilling report' to identify a member of 'daily drilling report connection clas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B4F-796C-464B-A4B7-84398D06469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Leng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measured along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2F8-5C1B-4041-8B11-DB00336BF09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p/Hanga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d depth of the top of the tub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E4E1-A326-4603-93F6-509A244B58C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Bottom/Sho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d depth of the bottom of the tub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DF7D-3818-404C-94A5-31B13EC66AE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asing ty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asing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sing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ing type used in this tubular job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618-30C2-42CE-9482-7DA9149B783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un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time of start of this stimulation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C92E-5932-48F8-B1DC-FF0A614A1E0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ight well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ight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Indicates if a well is tight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495-C42B-48E2-9AF7-340B7E6A96B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End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Rate of penetration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B6B-FBFF-4B5C-B230-D614EECF31E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escrip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description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Rate of penetration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 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86B-6F3A-4ED4-84AF-8BF320CEFEF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ement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623" name="Content Placeholder 6" descr="cementinfo.png"/>
          <p:cNvPicPr/>
          <p:nvPr/>
        </p:nvPicPr>
        <p:blipFill>
          <a:blip r:embed="rId1"/>
          <a:stretch/>
        </p:blipFill>
        <p:spPr>
          <a:xfrm>
            <a:off x="806400" y="2394000"/>
            <a:ext cx="8293320" cy="2771640"/>
          </a:xfrm>
          <a:prstGeom prst="rect">
            <a:avLst/>
          </a:prstGeom>
          <a:ln w="0">
            <a:noFill/>
          </a:ln>
        </p:spPr>
      </p:pic>
      <p:sp>
        <p:nvSpPr>
          <p:cNvPr id="624" name="Footer Placeholder 3"/>
          <p:cNvSpPr/>
          <p:nvPr/>
        </p:nvSpPr>
        <p:spPr>
          <a:xfrm>
            <a:off x="705924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657-8722-4C1F-943B-6FC7DFE78F1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Start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Pump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time at start of pumping 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C2EA-3A56-47C9-BCAC-8466D77903F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End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Pum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time at end of pumping 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4EF-CC46-466C-8883-DE8FFFC5162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Job ty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job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ementJob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cement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61C-510F-41D6-959A-915E24EB6F8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asing string diame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asingSt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ing string diameter of the casing cement (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0EEE-14E0-4564-9DD8-3EB5DEC46CE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p plug us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op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plug used?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258D-FC72-4740-86BC-58EDF6EB126F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Bottom plug us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bot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plug used.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556B-89CA-4040-BE85-220E0FF5BA6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lug bump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lugB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bumped?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0A6-DE4B-412D-86E7-AE506C4BD62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igh pressure – high temperat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hp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Indicates if a well is classified as HPHT (High pressure – high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E46-1CCC-4F3C-B65B-FC8246E0FC6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lug bump press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resB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pressure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plug bum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EE4-416E-4FB3-888D-F6B5FA08653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oat hel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float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held? Values are "true" (or "1") and "false" (of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C1C2-F0B4-4A7D-A692-6B4B1A63BB3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ressure release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mPres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pressur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2011-02-07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6FD-F973-44A7-A596-1E90C57C9FD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ull return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annFlow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returns.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65E-05A8-4DC8-A330-FE2C145CFE6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ement volume return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vol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olumeMeasureCubic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e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BD1F-86BF-4949-B59A-094FA5EBCA5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eciprocat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ecipr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 being reciprocated. values are "true"(1) and "false"(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0AE4-C4F4-45E1-A4E7-556751C258E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otat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o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ing string being rotated. Values are "true(1) and "false"(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F1E-4C24-4504-AE50-760F9DC84D4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omment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omme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for a cement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36A8-885D-4596-A3C6-7B790D488F1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uid Ty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ype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fluid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type: Mud, Wash, Spacer, Slu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245-0260-46EA-A769-3AD50842CB0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Volume pump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volP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olumeMeasureCubic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Pum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8705-74B6-4D9E-9C31-F093C87F261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ress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avgPres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pressureMeasureP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Average bottomhole pressure (ps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49D-1909-4AD4-8FEB-68D5DCF07A2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uid density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density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997-9CB8-44D2-94E7-A7BEA9EEF23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Yield poin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pecificVolumeMeasureCubicFeetPer94Pound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point (Bingham and Herschel Bulkley mod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4D3-4B81-479E-BE2C-AA215AA3727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ix water ratio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atioMix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pecificVolumeMeasureUsGallonsPerSack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water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3D6-05E9-4369-986E-E6A8ABE36BA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ree wa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cFree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olumePerVolumeMeasure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ree water na: = mL/250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E94-92BF-4DDD-AA39-08D6F41B4CF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hick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mThic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icken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0E6-84D8-4E58-B552-0138FF367E8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uid descrip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esc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description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 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001-8368-4ACC-A5F2-1BC3C22D37A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omment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omme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for cementing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 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A756-19D8-4B73-9F05-B09AD4CD1E9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erforation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748" name="Content Placeholder 6" descr="perforationinfo.png"/>
          <p:cNvPicPr/>
          <p:nvPr/>
        </p:nvPicPr>
        <p:blipFill>
          <a:blip r:embed="rId1"/>
          <a:stretch/>
        </p:blipFill>
        <p:spPr>
          <a:xfrm>
            <a:off x="138240" y="3209760"/>
            <a:ext cx="9629640" cy="1140120"/>
          </a:xfrm>
          <a:prstGeom prst="rect">
            <a:avLst/>
          </a:prstGeom>
          <a:ln w="0">
            <a:noFill/>
          </a:ln>
        </p:spPr>
      </p:pic>
      <p:sp>
        <p:nvSpPr>
          <p:cNvPr id="7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043-015D-4A91-A0A6-F8810086F26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uration Well Perf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D13-C9E5-44D8-86F9-C57EB312889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More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58" name="Espace réservé du pied de page 2"/>
          <p:cNvSpPr/>
          <p:nvPr/>
        </p:nvSpPr>
        <p:spPr>
          <a:xfrm>
            <a:off x="705924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Espace réservé du numéro de diapositive 3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DC39-0AAD-4619-B238-7C32B03FBCC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Espace réservé de la date 4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e 5"/>
          <p:cNvGrpSpPr/>
          <p:nvPr/>
        </p:nvGrpSpPr>
        <p:grpSpPr>
          <a:xfrm>
            <a:off x="2365200" y="1636560"/>
            <a:ext cx="5328000" cy="2446560"/>
            <a:chOff x="2365200" y="1636560"/>
            <a:chExt cx="5328000" cy="2446560"/>
          </a:xfrm>
        </p:grpSpPr>
        <p:grpSp>
          <p:nvGrpSpPr>
            <p:cNvPr id="762" name="Arrondir un rectangle avec un coin diagonal 6"/>
            <p:cNvGrpSpPr/>
            <p:nvPr/>
          </p:nvGrpSpPr>
          <p:grpSpPr>
            <a:xfrm>
              <a:off x="2596320" y="1856880"/>
              <a:ext cx="5096880" cy="2226240"/>
              <a:chOff x="2596320" y="1856880"/>
              <a:chExt cx="5096880" cy="2226240"/>
            </a:xfrm>
          </p:grpSpPr>
          <p:pic>
            <p:nvPicPr>
              <p:cNvPr id="763" name="Arrondir un rectangle avec un coin diagon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6320" y="1856880"/>
                <a:ext cx="5096880" cy="22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"/>
              <p:cNvSpPr/>
              <p:nvPr/>
            </p:nvSpPr>
            <p:spPr>
              <a:xfrm>
                <a:off x="2723400" y="1984680"/>
                <a:ext cx="4844880" cy="19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36000" tIns="252000" bIns="180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ease contac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009b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ein Arve Finnesta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ein-arve.finnestad@capgemini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009b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ao Bo Lu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ao-bo.lu@capgemini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5" name="Picture 14" descr="CBE_Label_RGB"/>
            <p:cNvPicPr/>
            <p:nvPr/>
          </p:nvPicPr>
          <p:blipFill>
            <a:blip r:embed="rId2"/>
            <a:stretch/>
          </p:blipFill>
          <p:spPr>
            <a:xfrm>
              <a:off x="2365200" y="1636560"/>
              <a:ext cx="596880" cy="59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emperat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avgTemp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hermodynamicTemperatureMeasureCel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Average bottomhole temperature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FBF9-CA89-4A2E-93C0-E4FB89A0712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ixed rig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fixed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Indicates if a rig is fix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B53B-8B3F-4823-8FC2-4833A9FB2A7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Water 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water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depth in Mean sea level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036-3D06-4DB5-B2C1-E12DDAD1FF6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0:29:36Z</dcterms:created>
  <dc:creator>Yao Bo Lu</dc:creator>
  <dc:description/>
  <dc:language>en-US</dc:language>
  <cp:lastModifiedBy>Lillian Hella</cp:lastModifiedBy>
  <dcterms:modified xsi:type="dcterms:W3CDTF">2011-05-24T14:37:24Z</dcterms:modified>
  <cp:revision>284</cp:revision>
  <dc:subject/>
  <dc:title>Daily Drilling Report 1.2.0 Elements</dc:title>
</cp:coreProperties>
</file>