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0359A1-5B79-4A0A-B21F-3051D23F43C9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B8B9A1-8D04-44EB-B1D0-8D6D2DF94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1848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644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088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928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088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928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980640"/>
            <a:ext cx="6858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644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162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315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buClr>
                <a:srgbClr val="00315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buClr>
                <a:srgbClr val="00315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67640"/>
            <a:ext cx="9144000" cy="90360"/>
          </a:xfrm>
          <a:prstGeom prst="rect">
            <a:avLst/>
          </a:prstGeom>
          <a:solidFill>
            <a:srgbClr val="003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90360"/>
          </a:xfrm>
          <a:prstGeom prst="rect">
            <a:avLst/>
          </a:prstGeom>
          <a:solidFill>
            <a:srgbClr val="003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2888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cc"/>
                </a:solidFill>
                <a:latin typeface="Trebuchet MS"/>
              </a:rPr>
              <a:t>DDR version 1.2</a:t>
            </a:r>
            <a:br>
              <a:rPr sz="3600"/>
            </a:br>
            <a:r>
              <a:rPr b="1" lang="en-GB" sz="2400" spc="-1" strike="noStrike">
                <a:solidFill>
                  <a:srgbClr val="0099cc"/>
                </a:solidFill>
                <a:latin typeface="Trebuchet MS"/>
              </a:rPr>
              <a:t>Project meeting - Web</a:t>
            </a:r>
            <a:endParaRPr b="1" lang="en-US" sz="24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5918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15.02.20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Lillian Hell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POSC Caesar Association (PCA)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illian.hella@posccaesar.org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99cc"/>
                </a:solidFill>
                <a:latin typeface="Trebuchet MS"/>
              </a:rPr>
              <a:t>Agenda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pproval of agend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pproval of Minutes of Meeting from las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New project member – Yao, Capgemini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greement and clarifications on definition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XML Schema and html report statu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Future work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Nex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OB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5:30:25Z</dcterms:created>
  <dc:creator>Ruilin</dc:creator>
  <dc:description/>
  <dc:language>en-US</dc:language>
  <cp:lastModifiedBy>Lillian Hella</cp:lastModifiedBy>
  <dcterms:modified xsi:type="dcterms:W3CDTF">2011-02-14T15:44:37Z</dcterms:modified>
  <cp:revision>179</cp:revision>
  <dc:subject/>
  <dc:title>PowerPoint Presentation</dc:title>
</cp:coreProperties>
</file>