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nb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Trebuchet MS"/>
              </a:rPr>
              <a:t>Click to move the slide</a:t>
            </a:r>
            <a:endParaRPr b="1" lang="en-US" sz="2800" spc="-1" strike="noStrike">
              <a:solidFill>
                <a:srgbClr val="0099cc"/>
              </a:solidFill>
              <a:latin typeface="Trebuchet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nb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nb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EB20D6B-03C3-49FA-AEE0-C909A657C6A3}" type="slidenum"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B634724-0BD7-4A84-996D-5C12522A9B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ope for legal li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kniske løsnin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vordan skal det fungere I praksis I forhold til vedlkehol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vor ofte skjer det oppdatering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stans for å håndtere endringer og nye kombinasjo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obling mot R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915920"/>
            <a:ext cx="6858000" cy="21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218480"/>
            <a:ext cx="6858000" cy="21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15920"/>
            <a:ext cx="3346560" cy="21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76440" y="1915920"/>
            <a:ext cx="3346560" cy="21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218480"/>
            <a:ext cx="3346560" cy="21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76440" y="4218480"/>
            <a:ext cx="3346560" cy="21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915920"/>
            <a:ext cx="2207880" cy="21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0880" y="1915920"/>
            <a:ext cx="2207880" cy="21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99280" y="1915920"/>
            <a:ext cx="2207880" cy="21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218480"/>
            <a:ext cx="2207880" cy="21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0880" y="4218480"/>
            <a:ext cx="2207880" cy="21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99280" y="4218480"/>
            <a:ext cx="2207880" cy="21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915920"/>
            <a:ext cx="6858000" cy="44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915920"/>
            <a:ext cx="6858000" cy="44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915920"/>
            <a:ext cx="3346560" cy="44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76440" y="1915920"/>
            <a:ext cx="3346560" cy="44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6920" y="980640"/>
            <a:ext cx="6858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915920"/>
            <a:ext cx="3346560" cy="21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76440" y="1915920"/>
            <a:ext cx="3346560" cy="44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218480"/>
            <a:ext cx="3346560" cy="21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915920"/>
            <a:ext cx="3346560" cy="44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76440" y="1915920"/>
            <a:ext cx="3346560" cy="21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76440" y="4218480"/>
            <a:ext cx="3346560" cy="21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915920"/>
            <a:ext cx="3346560" cy="21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76440" y="1915920"/>
            <a:ext cx="3346560" cy="21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218480"/>
            <a:ext cx="6858000" cy="21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47520"/>
            <a:ext cx="9144000" cy="1629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Trebuchet MS"/>
              </a:rPr>
              <a:t>Click to edit the title text format</a:t>
            </a:r>
            <a:endParaRPr b="1" lang="en-US" sz="2800" spc="-1" strike="noStrike">
              <a:solidFill>
                <a:srgbClr val="0099cc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915920"/>
            <a:ext cx="6858000" cy="44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7dc337"/>
              </a:buClr>
              <a:buSzPct val="12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31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buClr>
                <a:srgbClr val="00315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buClr>
                <a:srgbClr val="00315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buClr>
                <a:srgbClr val="00315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767640"/>
            <a:ext cx="9144000" cy="90360"/>
          </a:xfrm>
          <a:prstGeom prst="rect">
            <a:avLst/>
          </a:prstGeom>
          <a:solidFill>
            <a:srgbClr val="0031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90360"/>
          </a:xfrm>
          <a:prstGeom prst="rect">
            <a:avLst/>
          </a:prstGeom>
          <a:solidFill>
            <a:srgbClr val="0031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28880"/>
            <a:ext cx="7772400" cy="17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99cc"/>
                </a:solidFill>
                <a:latin typeface="Trebuchet MS"/>
              </a:rPr>
              <a:t>DDR version 1.2</a:t>
            </a:r>
            <a:br>
              <a:rPr sz="3600"/>
            </a:br>
            <a:r>
              <a:rPr b="1" lang="en-GB" sz="2400" spc="-1" strike="noStrike">
                <a:solidFill>
                  <a:srgbClr val="0099cc"/>
                </a:solidFill>
                <a:latin typeface="Trebuchet MS"/>
              </a:rPr>
              <a:t>Project meeting - Web</a:t>
            </a:r>
            <a:endParaRPr b="1" lang="en-US" sz="2400" spc="-1" strike="noStrike">
              <a:solidFill>
                <a:srgbClr val="0099cc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4495680"/>
            <a:ext cx="591840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4d4d4d"/>
                </a:solidFill>
                <a:latin typeface="Arial"/>
              </a:rPr>
              <a:t>25.01.20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Lillian Hella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POSC Caesar Association (PCA)</a:t>
            </a: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lillian.hella@posccaesar.org</a:t>
            </a: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99cc"/>
                </a:solidFill>
                <a:latin typeface="Trebuchet MS"/>
              </a:rPr>
              <a:t>Agenda</a:t>
            </a:r>
            <a:endParaRPr b="1" lang="en-US" sz="2800" spc="-1" strike="noStrike">
              <a:solidFill>
                <a:srgbClr val="0099cc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915920"/>
            <a:ext cx="6858000" cy="44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7dc337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4d4d4d"/>
                </a:solidFill>
                <a:latin typeface="Arial"/>
              </a:rPr>
              <a:t>Approval of agenda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7dc337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4d4d4d"/>
                </a:solidFill>
                <a:latin typeface="Arial"/>
              </a:rPr>
              <a:t>Approval of Minutes of Meeting from last meeting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7dc337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4d4d4d"/>
                </a:solidFill>
                <a:latin typeface="Arial"/>
              </a:rPr>
              <a:t>Alternatives for legal lists 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00"/>
              </a:spcBef>
              <a:buClr>
                <a:srgbClr val="00315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777777"/>
                </a:solidFill>
                <a:latin typeface="Tahoma"/>
              </a:rPr>
              <a:t>Free text</a:t>
            </a:r>
            <a:endParaRPr b="0" lang="en-US" sz="1600" spc="-1" strike="noStrike">
              <a:solidFill>
                <a:srgbClr val="777777"/>
              </a:solidFill>
              <a:latin typeface="Tahoma"/>
            </a:endParaRPr>
          </a:p>
          <a:p>
            <a:pPr lvl="1" marL="762120" indent="-304920">
              <a:lnSpc>
                <a:spcPct val="90000"/>
              </a:lnSpc>
              <a:spcBef>
                <a:spcPts val="700"/>
              </a:spcBef>
              <a:buClr>
                <a:srgbClr val="00315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777777"/>
                </a:solidFill>
                <a:latin typeface="Tahoma"/>
              </a:rPr>
              <a:t>Fixed set of combinations in XML Schema</a:t>
            </a:r>
            <a:endParaRPr b="0" lang="en-US" sz="1600" spc="-1" strike="noStrike">
              <a:solidFill>
                <a:srgbClr val="777777"/>
              </a:solidFill>
              <a:latin typeface="Tahoma"/>
            </a:endParaRPr>
          </a:p>
          <a:p>
            <a:pPr lvl="1" marL="762120" indent="-304920">
              <a:lnSpc>
                <a:spcPct val="90000"/>
              </a:lnSpc>
              <a:spcBef>
                <a:spcPts val="700"/>
              </a:spcBef>
              <a:buClr>
                <a:srgbClr val="00315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777777"/>
                </a:solidFill>
                <a:latin typeface="Tahoma"/>
              </a:rPr>
              <a:t>Externally stored, maintained and validated</a:t>
            </a:r>
            <a:endParaRPr b="0" lang="en-US" sz="1600" spc="-1" strike="noStrike">
              <a:solidFill>
                <a:srgbClr val="777777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7dc337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Clarifications and settling of final scope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7dc337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Agreement on Project Description document 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7dc337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Future work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7dc337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Next meeting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7dc337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AOB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Trebuchet MS"/>
              </a:rPr>
              <a:t>Legal lists – the alternatives</a:t>
            </a:r>
            <a:endParaRPr b="1" lang="en-US" sz="2800" spc="-1" strike="noStrike">
              <a:solidFill>
                <a:srgbClr val="0099cc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915920"/>
            <a:ext cx="6858000" cy="44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7dc337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4d4d4d"/>
                </a:solidFill>
                <a:latin typeface="Arial"/>
              </a:rPr>
              <a:t>Free text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7dc337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4d4d4d"/>
                </a:solidFill>
                <a:latin typeface="Arial"/>
              </a:rPr>
              <a:t>Fixed set of combinations in XML Schema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7dc337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4d4d4d"/>
                </a:solidFill>
                <a:latin typeface="Arial"/>
              </a:rPr>
              <a:t>Externally stored, maintained and validated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4d4d4d"/>
                </a:solidFill>
                <a:latin typeface="Arial"/>
              </a:rPr>
              <a:t>For alternative 2 and 3 all possible existing combinations need to be known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4d4d4d"/>
                </a:solidFill>
                <a:latin typeface="Arial"/>
              </a:rPr>
              <a:t>Now we have specifications for combinations according to API 5CT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Trebuchet MS"/>
              </a:rPr>
              <a:t>Clarifications and settling of final scope</a:t>
            </a:r>
            <a:endParaRPr b="1" lang="en-US" sz="2800" spc="-1" strike="noStrike">
              <a:solidFill>
                <a:srgbClr val="0099cc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15920"/>
            <a:ext cx="6858000" cy="44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7dc337"/>
              </a:buClr>
              <a:buSzPct val="12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See ConceptsAndDefinitions-document for details that result in the list in the Scope-document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7dc337"/>
              </a:buClr>
              <a:buSzPct val="12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Bit data extensions – can it be kept out of scope?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7dc337"/>
              </a:buClr>
              <a:buSzPct val="12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Are all proposals for cementing (including cement fluid details) relevant for partner reporting?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7dc337"/>
              </a:buClr>
              <a:buSzPct val="12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Proposals received after scope is set will be saved for future work and will not be included in DDR 1.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Trebuchet MS"/>
              </a:rPr>
              <a:t>Agreement on Project description</a:t>
            </a:r>
            <a:endParaRPr b="1" lang="en-US" sz="2800" spc="-1" strike="noStrike">
              <a:solidFill>
                <a:srgbClr val="0099cc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15920"/>
            <a:ext cx="6858000" cy="44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7dc337"/>
              </a:buClr>
              <a:buSzPct val="12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cope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7dc337"/>
              </a:buClr>
              <a:buSzPct val="12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Deliveries – possible implementation of, an maintenance procedures 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7dc337"/>
              </a:buClr>
              <a:buSzPct val="12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Proposals after agreement will be saved for future work and will not be included in DDR 1.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Trebuchet MS"/>
              </a:rPr>
              <a:t>Future work and next meeting</a:t>
            </a:r>
            <a:endParaRPr b="1" lang="en-US" sz="2800" spc="-1" strike="noStrike">
              <a:solidFill>
                <a:srgbClr val="0099cc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915920"/>
            <a:ext cx="6858000" cy="44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7dc337"/>
              </a:buClr>
              <a:buSzPct val="12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For next meeting when scope is set: focus on definitions and necessary clarifications for proposals in scope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7dc337"/>
              </a:buClr>
              <a:buSzPct val="12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Possible final updates to Project Description and Scope attachment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7dc337"/>
              </a:buClr>
              <a:buSzPct val="12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We need feedback on existing combinations for legal values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7dc337"/>
              </a:buClr>
              <a:buSzPct val="12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Job, phase, activity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6T15:30:25Z</dcterms:created>
  <dc:creator>Ruilin</dc:creator>
  <dc:description/>
  <dc:language>en-US</dc:language>
  <cp:lastModifiedBy>Lillian Hella</cp:lastModifiedBy>
  <dcterms:modified xsi:type="dcterms:W3CDTF">2011-01-25T07:48:44Z</dcterms:modified>
  <cp:revision>172</cp:revision>
  <dc:subject/>
  <dc:title>PowerPoint Presentation</dc:title>
</cp:coreProperties>
</file>